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7720-CD4E-432A-9815-426650482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907092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420440"/>
            <a:ext cx="907092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807C-226B-433E-A864-079FEEA27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218412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42044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42044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115D-CA4C-41F4-98D9-4DD902336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292068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84120"/>
            <a:ext cx="292068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2184120"/>
            <a:ext cx="292068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420440"/>
            <a:ext cx="292068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420440"/>
            <a:ext cx="292068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420440"/>
            <a:ext cx="292068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EEDF-8517-4C6C-9B5D-688E4B7F5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5F9E7-DAA1-4F99-83E9-E84E7109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4360" y="2184120"/>
            <a:ext cx="907092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2AC37-6C50-4840-89EC-4679EEB9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9070920" cy="4281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35BB1-CBFF-45B8-A870-236CAF67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4426560" cy="4281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2680" y="2184120"/>
            <a:ext cx="4426560" cy="4281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5A273-945E-42C2-A924-0EE48DAC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1E5A8-4FDD-4E90-923F-B3B1DBC9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04360" y="503280"/>
            <a:ext cx="90709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D06BA-293B-426B-8B04-6F3FDA7C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2184120"/>
            <a:ext cx="4426560" cy="4281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360" y="442044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9122A-1E35-479C-95CA-F58594B4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2184120"/>
            <a:ext cx="907092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26B5-41C6-4D6E-8742-EE100DBDC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4426560" cy="4281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218412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52680" y="442044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B8D9B-737B-4461-9664-FF76447B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52680" y="218412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4360" y="4420440"/>
            <a:ext cx="907092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055FF-9F23-4C45-8811-39F4E771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907092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360" y="4420440"/>
            <a:ext cx="907092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706AB-90BB-4F87-A1F9-0F0434E6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218412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360" y="442044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52680" y="442044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05D96-FAD0-4A80-BC70-340CD1A0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292068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71560" y="2184120"/>
            <a:ext cx="292068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38400" y="2184120"/>
            <a:ext cx="292068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04360" y="4420440"/>
            <a:ext cx="292068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71560" y="4420440"/>
            <a:ext cx="292068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638400" y="4420440"/>
            <a:ext cx="292068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83F72-24BD-4D4F-8DD9-3455DB05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9070920" cy="4281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9833-B996-4B6A-9628-64C90222C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4426560" cy="4281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2184120"/>
            <a:ext cx="4426560" cy="4281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1100-60EE-4E57-917A-586686093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867E-6FA0-45BA-A4FA-88E060CDD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503280"/>
            <a:ext cx="90709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09AC-5C0E-485D-87C7-EA3AAF0EC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2184120"/>
            <a:ext cx="4426560" cy="4281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42044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B6443-9C46-49E8-829E-1D631E36B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4426560" cy="4281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218412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42044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04D8-3BA8-48FF-8CC4-37F6676EB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2184120"/>
            <a:ext cx="442656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420440"/>
            <a:ext cx="9070920" cy="20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5A29-967B-4C9E-A2F7-42E520F0F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03280" y="7093080"/>
            <a:ext cx="7345440" cy="29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01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E0E2D-C95A-484B-BE08-F30572FFAC19}" type="slidenum">
              <a:rPr b="0" lang="en-GB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10078560" cy="599760"/>
            <a:chOff x="0" y="0"/>
            <a:chExt cx="10078560" cy="59976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313920" cy="58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55400" y="149040"/>
              <a:ext cx="9623160" cy="300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50360" y="149040"/>
              <a:ext cx="152280" cy="1548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03000" y="0"/>
              <a:ext cx="153360" cy="151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603000" y="149040"/>
              <a:ext cx="153360" cy="154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302760" y="300600"/>
              <a:ext cx="150480" cy="151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44000" y="150120"/>
              <a:ext cx="155160" cy="151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50360" y="297720"/>
              <a:ext cx="152280" cy="151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302760" y="449640"/>
              <a:ext cx="150480" cy="150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04360" y="503280"/>
            <a:ext cx="9070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504360" y="2184120"/>
            <a:ext cx="9070920" cy="4281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3000"/>
              </a:lnSpc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6080">
              <a:lnSpc>
                <a:spcPct val="93000"/>
              </a:lnSpc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50920">
              <a:lnSpc>
                <a:spcPct val="93000"/>
              </a:lnSpc>
              <a:spcBef>
                <a:spcPts val="87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2200" indent="-250920">
              <a:lnSpc>
                <a:spcPct val="93000"/>
              </a:lnSpc>
              <a:spcBef>
                <a:spcPts val="876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6920" indent="-250920">
              <a:lnSpc>
                <a:spcPct val="93000"/>
              </a:lnSpc>
              <a:spcBef>
                <a:spcPts val="876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6920" indent="-250920">
              <a:lnSpc>
                <a:spcPct val="93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6920" indent="-250920">
              <a:lnSpc>
                <a:spcPct val="93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10078560" cy="7558200"/>
            <a:chOff x="0" y="0"/>
            <a:chExt cx="10078560" cy="7558200"/>
          </a:xfrm>
        </p:grpSpPr>
        <p:sp>
          <p:nvSpPr>
            <p:cNvPr id="51" name="Rectangle 2"/>
            <p:cNvSpPr/>
            <p:nvPr/>
          </p:nvSpPr>
          <p:spPr>
            <a:xfrm>
              <a:off x="0" y="0"/>
              <a:ext cx="3863160" cy="7558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3"/>
            <p:cNvSpPr/>
            <p:nvPr/>
          </p:nvSpPr>
          <p:spPr>
            <a:xfrm>
              <a:off x="1891800" y="1863360"/>
              <a:ext cx="8186760" cy="2791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Group 4"/>
            <p:cNvGrpSpPr/>
            <p:nvPr/>
          </p:nvGrpSpPr>
          <p:grpSpPr>
            <a:xfrm>
              <a:off x="0" y="1176120"/>
              <a:ext cx="3157920" cy="3476880"/>
              <a:chOff x="0" y="1176120"/>
              <a:chExt cx="3157920" cy="3476880"/>
            </a:xfrm>
          </p:grpSpPr>
          <p:sp>
            <p:nvSpPr>
              <p:cNvPr id="54" name="Rectangle 5"/>
              <p:cNvSpPr/>
              <p:nvPr/>
            </p:nvSpPr>
            <p:spPr>
              <a:xfrm>
                <a:off x="631080" y="3947040"/>
                <a:ext cx="634320" cy="705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6"/>
              <p:cNvSpPr/>
              <p:nvPr/>
            </p:nvSpPr>
            <p:spPr>
              <a:xfrm>
                <a:off x="1888920" y="1862640"/>
                <a:ext cx="632520" cy="707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2512440" y="1176120"/>
                <a:ext cx="645480" cy="6991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257840" y="3947040"/>
                <a:ext cx="642240" cy="7059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512440" y="1862640"/>
                <a:ext cx="645480" cy="707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257840" y="2560680"/>
                <a:ext cx="642240" cy="696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0" y="2560680"/>
                <a:ext cx="640800" cy="696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888920" y="2560680"/>
                <a:ext cx="632520" cy="696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631080" y="3247560"/>
                <a:ext cx="634320" cy="7088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257840" y="3247560"/>
                <a:ext cx="642240" cy="7088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504360" y="6887880"/>
            <a:ext cx="2349720" cy="501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444480" y="6887880"/>
            <a:ext cx="3189240" cy="501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7224840" y="6887880"/>
            <a:ext cx="2350800" cy="501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B1B3D-6500-49A1-AABE-20DDDF5495CF}" type="slidenum">
              <a:rPr b="0" lang="en-GB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3276720" y="2016000"/>
            <a:ext cx="6634080" cy="2433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ußzeilenplatzhalter 1"/>
          <p:cNvSpPr/>
          <p:nvPr/>
        </p:nvSpPr>
        <p:spPr>
          <a:xfrm>
            <a:off x="503280" y="7093080"/>
            <a:ext cx="7345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539640" y="539640"/>
            <a:ext cx="90727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503280" y="1979640"/>
            <a:ext cx="828036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7d"/>
                </a:solidFill>
                <a:latin typeface="Arial"/>
              </a:rPr>
              <a:t>Programmieren lerne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. Entwickeln einer Software für die Verwaltung des Verkaufs von Eintrittskart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. Programmieren eines Kaffeeautomat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. Entwickeln einer Robotersteueru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ußzeilenplatzhalter 1"/>
          <p:cNvSpPr/>
          <p:nvPr/>
        </p:nvSpPr>
        <p:spPr>
          <a:xfrm>
            <a:off x="503280" y="7093080"/>
            <a:ext cx="7345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900000" y="900000"/>
            <a:ext cx="79200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440000" y="1042920"/>
            <a:ext cx="647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603360" indent="-60336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Gothic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Gothic"/>
              </a:rPr>
              <a:t>Variablen können nur Werte eines bestimmten Datentyps besitz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60336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 rot="5400000">
            <a:off x="3795120" y="2938320"/>
            <a:ext cx="1703520" cy="1081080"/>
          </a:xfrm>
          <a:prstGeom prst="rightArrow">
            <a:avLst>
              <a:gd name="adj1" fmla="val 50000"/>
              <a:gd name="adj2" fmla="val 39394"/>
            </a:avLst>
          </a:prstGeom>
          <a:solidFill>
            <a:srgbClr val="00007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619280" y="4879800"/>
            <a:ext cx="7020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ser Wert wird durch den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Datentyp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iner Variablen festgeleg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503280" y="7093080"/>
            <a:ext cx="7345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"/>
          <p:cNvSpPr/>
          <p:nvPr/>
        </p:nvSpPr>
        <p:spPr>
          <a:xfrm rot="5340000">
            <a:off x="3948840" y="766440"/>
            <a:ext cx="1249560" cy="1081080"/>
          </a:xfrm>
          <a:prstGeom prst="rightArrow">
            <a:avLst>
              <a:gd name="adj1" fmla="val 50000"/>
              <a:gd name="adj2" fmla="val 28896"/>
            </a:avLst>
          </a:prstGeom>
          <a:solidFill>
            <a:srgbClr val="00007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1440000" y="2519280"/>
            <a:ext cx="6751440" cy="31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 Festlegung einer Variablen durch ihr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Namen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 ihren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Datentyp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nnt m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Deklaration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Vereinbarung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ispiel:  int numm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3"/>
          <p:cNvSpPr/>
          <p:nvPr/>
        </p:nvSpPr>
        <p:spPr>
          <a:xfrm flipV="1">
            <a:off x="3060720" y="4675320"/>
            <a:ext cx="1440" cy="72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 flipV="1">
            <a:off x="4140360" y="4675320"/>
            <a:ext cx="1440" cy="72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303640" y="5580000"/>
            <a:ext cx="1090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Datenty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3816360" y="5580000"/>
            <a:ext cx="789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ußzeilenplatzhalter 1"/>
          <p:cNvSpPr/>
          <p:nvPr/>
        </p:nvSpPr>
        <p:spPr>
          <a:xfrm>
            <a:off x="503280" y="7093080"/>
            <a:ext cx="7345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079640" y="900000"/>
            <a:ext cx="8508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 deklarieren die Attribute der Klasse </a:t>
            </a:r>
            <a:r>
              <a:rPr b="0" lang="en-GB" sz="2800" spc="-1" strike="noStrike">
                <a:solidFill>
                  <a:srgbClr val="000000"/>
                </a:solidFill>
                <a:latin typeface="MS PMincho"/>
              </a:rPr>
              <a:t>Eintrittskar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2448000" y="2340000"/>
            <a:ext cx="5040360" cy="37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ußzeilenplatzhalter 2"/>
          <p:cNvSpPr/>
          <p:nvPr/>
        </p:nvSpPr>
        <p:spPr>
          <a:xfrm>
            <a:off x="503280" y="7093080"/>
            <a:ext cx="7345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502920"/>
            <a:ext cx="907416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en-GB" sz="4900" spc="-1" strike="noStrike">
                <a:solidFill>
                  <a:srgbClr val="00007d"/>
                </a:solidFill>
                <a:latin typeface="Arial"/>
              </a:rPr>
              <a:t>Absichte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720720" y="2039760"/>
            <a:ext cx="630072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1" marL="430200" indent="-32400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kein ewiger Vortrag, sonder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   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kurze Einführung (etwas Theorie ist leider nöti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   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anach schreibt ihr selbst kleine Program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   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zuletzt programmiert ihr eine Robotersteuer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9800" indent="-28260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azwischen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Immer Frag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ußzeilenplatzhalter 3"/>
          <p:cNvSpPr/>
          <p:nvPr/>
        </p:nvSpPr>
        <p:spPr>
          <a:xfrm>
            <a:off x="503280" y="7093080"/>
            <a:ext cx="7345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en-GB" sz="4900" spc="-1" strike="noStrike">
                <a:solidFill>
                  <a:srgbClr val="00007d"/>
                </a:solidFill>
                <a:latin typeface="Arial"/>
              </a:rPr>
              <a:t>Bisher – Sicht des Nutzer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800360" y="2411280"/>
            <a:ext cx="6192720" cy="39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ußzeilenplatzhalter 3"/>
          <p:cNvSpPr/>
          <p:nvPr/>
        </p:nvSpPr>
        <p:spPr>
          <a:xfrm>
            <a:off x="503280" y="7093080"/>
            <a:ext cx="7345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503280"/>
            <a:ext cx="9072720" cy="151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en-GB" sz="4900" spc="-1" strike="noStrike">
                <a:solidFill>
                  <a:srgbClr val="00007d"/>
                </a:solidFill>
                <a:latin typeface="Arial"/>
              </a:rPr>
              <a:t>Jetzt – Sicht des Entwickler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087640" y="1979640"/>
            <a:ext cx="5184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ußzeilenplatzhalter 2"/>
          <p:cNvSpPr/>
          <p:nvPr/>
        </p:nvSpPr>
        <p:spPr>
          <a:xfrm>
            <a:off x="503280" y="7093080"/>
            <a:ext cx="7345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360" y="345600"/>
            <a:ext cx="906948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Klassendiagramm und Objektkarte einer Eintritts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2"/>
              <p:cNvSpPr txBox="1"/>
              <p:nvPr/>
            </p:nvSpPr>
            <p:spPr>
              <a:xfrm>
                <a:off x="4608360" y="327492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008000" y="2556000"/>
            <a:ext cx="3168720" cy="2368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5952960" y="4859280"/>
            <a:ext cx="2867040" cy="2371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7380360" y="23256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638760" y="5040360"/>
            <a:ext cx="1641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trittskart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7199280" y="6659640"/>
            <a:ext cx="3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480000" y="6300720"/>
            <a:ext cx="17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940360" y="5400720"/>
            <a:ext cx="26780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mer      =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ernname = Rottkäppchen i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i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= 12 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1511280" y="4210200"/>
            <a:ext cx="1440" cy="10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 flipV="1">
            <a:off x="2232000" y="4210200"/>
            <a:ext cx="1440" cy="10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 flipH="1">
            <a:off x="2517840" y="2340000"/>
            <a:ext cx="5443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863640" y="5435640"/>
            <a:ext cx="9349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871640" y="5435640"/>
            <a:ext cx="990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Datenty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2808360" y="1979640"/>
            <a:ext cx="14126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Klassennam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3"/>
          <a:stretch/>
        </p:blipFill>
        <p:spPr>
          <a:xfrm>
            <a:off x="5970600" y="2176560"/>
            <a:ext cx="2849400" cy="2324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7"/>
          <p:cNvSpPr/>
          <p:nvPr/>
        </p:nvSpPr>
        <p:spPr>
          <a:xfrm>
            <a:off x="6564240" y="2243160"/>
            <a:ext cx="1641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trittskart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5962680" y="2700360"/>
            <a:ext cx="27273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mer       =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ernname  = Rottkäppchen i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i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= 12 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6659640" y="1800360"/>
            <a:ext cx="53964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V="1">
            <a:off x="6300720" y="3597120"/>
            <a:ext cx="1800" cy="90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V="1">
            <a:off x="7561440" y="3597120"/>
            <a:ext cx="1440" cy="90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5924520" y="1440000"/>
            <a:ext cx="1274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Objektnam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5545080" y="4500720"/>
            <a:ext cx="1444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ttributnam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7199280" y="4500720"/>
            <a:ext cx="131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ttributwert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ußzeilenplatzhalter 2"/>
          <p:cNvSpPr/>
          <p:nvPr/>
        </p:nvSpPr>
        <p:spPr>
          <a:xfrm>
            <a:off x="503280" y="7093080"/>
            <a:ext cx="7345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63280" y="611280"/>
            <a:ext cx="906948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Zustandsdiagramm einer Eintritts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87280" y="2411280"/>
            <a:ext cx="9539280" cy="3240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1800360" y="5759280"/>
            <a:ext cx="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ußzeilenplatzhalter 2"/>
          <p:cNvSpPr/>
          <p:nvPr/>
        </p:nvSpPr>
        <p:spPr>
          <a:xfrm>
            <a:off x="503280" y="7093080"/>
            <a:ext cx="7345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19280" y="466200"/>
            <a:ext cx="90691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Klassendiagramm und Objektkarte einer Eintritts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4584600" y="326556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2" name="Text Box 4"/>
          <p:cNvSpPr/>
          <p:nvPr/>
        </p:nvSpPr>
        <p:spPr>
          <a:xfrm>
            <a:off x="7380360" y="23256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638760" y="5040360"/>
            <a:ext cx="1641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trittskart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7199280" y="6659640"/>
            <a:ext cx="3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480000" y="6300720"/>
            <a:ext cx="17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5940360" y="4643280"/>
            <a:ext cx="2879640" cy="2371680"/>
            <a:chOff x="5940360" y="4643280"/>
            <a:chExt cx="2879640" cy="2371680"/>
          </a:xfrm>
        </p:grpSpPr>
        <p:pic>
          <p:nvPicPr>
            <p:cNvPr id="157" name="Picture 3" descr=""/>
            <p:cNvPicPr/>
            <p:nvPr/>
          </p:nvPicPr>
          <p:blipFill>
            <a:blip r:embed="rId1"/>
            <a:stretch/>
          </p:blipFill>
          <p:spPr>
            <a:xfrm>
              <a:off x="5952960" y="4643280"/>
              <a:ext cx="286704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5940360" y="5184720"/>
              <a:ext cx="267804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ummer      =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pernname = Rottkäppchen i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ew Y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eis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    = 12 €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zustand       = reservie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9" name="Picture 9" descr=""/>
          <p:cNvPicPr/>
          <p:nvPr/>
        </p:nvPicPr>
        <p:blipFill>
          <a:blip r:embed="rId2"/>
          <a:stretch/>
        </p:blipFill>
        <p:spPr>
          <a:xfrm>
            <a:off x="5970600" y="2176560"/>
            <a:ext cx="2849400" cy="23241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"/>
          <p:cNvSpPr/>
          <p:nvPr/>
        </p:nvSpPr>
        <p:spPr>
          <a:xfrm>
            <a:off x="6564240" y="2243160"/>
            <a:ext cx="1641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trittskart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962680" y="2700360"/>
            <a:ext cx="27273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mer       =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ernname  = Rottkäppchen i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i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= 12 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420e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420e"/>
                </a:solidFill>
                <a:latin typeface="Arial"/>
              </a:rPr>
              <a:t>zustand </a:t>
            </a:r>
            <a:r>
              <a:rPr b="0" lang="en-GB" sz="1400" spc="-1" strike="noStrike">
                <a:solidFill>
                  <a:srgbClr val="ff420e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420e"/>
                </a:solidFill>
                <a:latin typeface="Arial"/>
              </a:rPr>
              <a:t>       = bezah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2" descr=""/>
          <p:cNvPicPr/>
          <p:nvPr/>
        </p:nvPicPr>
        <p:blipFill>
          <a:blip r:embed="rId3"/>
          <a:stretch/>
        </p:blipFill>
        <p:spPr>
          <a:xfrm>
            <a:off x="863640" y="2266920"/>
            <a:ext cx="338292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ußzeilenplatzhalter 1"/>
          <p:cNvSpPr/>
          <p:nvPr/>
        </p:nvSpPr>
        <p:spPr>
          <a:xfrm>
            <a:off x="503280" y="7093080"/>
            <a:ext cx="7345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"/>
          <p:cNvSpPr/>
          <p:nvPr/>
        </p:nvSpPr>
        <p:spPr>
          <a:xfrm rot="5400000">
            <a:off x="3998160" y="935280"/>
            <a:ext cx="1620720" cy="1260720"/>
          </a:xfrm>
          <a:prstGeom prst="rightArrow">
            <a:avLst>
              <a:gd name="adj1" fmla="val 50000"/>
              <a:gd name="adj2" fmla="val 32139"/>
            </a:avLst>
          </a:prstGeom>
          <a:solidFill>
            <a:srgbClr val="00007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669960" y="2879640"/>
            <a:ext cx="85104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336600" indent="-336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Gothic"/>
              </a:rPr>
              <a:t>Speicherplätze für veränderliche Werte nennt man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  <a:ea typeface="MS Gothic"/>
              </a:rPr>
              <a:t>Variabl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Gothic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Gothic"/>
              </a:rPr>
              <a:t>diese werden mit einem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  <a:ea typeface="MS Gothic"/>
              </a:rPr>
              <a:t>Variablennam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Gothic"/>
              </a:rPr>
              <a:t> bezeich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Gothic"/>
              </a:rPr>
              <a:t>z.B. zustand, nummer, prei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ußzeilenplatzhalter 1"/>
          <p:cNvSpPr/>
          <p:nvPr/>
        </p:nvSpPr>
        <p:spPr>
          <a:xfrm>
            <a:off x="503280" y="7093080"/>
            <a:ext cx="7345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rina Maile, Judith Voigtländer - Lehramtsstudierende an der Universität Passa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552600" y="1979640"/>
            <a:ext cx="8988120" cy="46450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"/>
          <p:cNvSpPr/>
          <p:nvPr/>
        </p:nvSpPr>
        <p:spPr>
          <a:xfrm>
            <a:off x="1305000" y="2700360"/>
            <a:ext cx="1395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umm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440000" y="6840360"/>
            <a:ext cx="722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960720" y="260028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319640" y="3860640"/>
            <a:ext cx="134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zust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959280" y="4940280"/>
            <a:ext cx="1911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pern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039680" y="893880"/>
            <a:ext cx="4721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Speicher eines Rech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 b</dc:creator>
  <dc:description/>
  <dc:language>en-US</dc:language>
  <cp:lastModifiedBy>Ute Heuer</cp:lastModifiedBy>
  <dcterms:modified xsi:type="dcterms:W3CDTF">2008-09-01T13:21:36Z</dcterms:modified>
  <cp:revision>2</cp:revision>
  <dc:subject/>
  <dc:title>Folie 1</dc:title>
</cp:coreProperties>
</file>