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0.wmf" ContentType="image/x-wmf"/>
  <Override PartName="/ppt/media/image7.wmf" ContentType="image/x-wmf"/>
  <Override PartName="/ppt/media/image8.png" ContentType="image/png"/>
  <Override PartName="/ppt/media/image9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64C69-BE01-4AC9-A9EE-43AEE98AF1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F3B72-CCD5-4341-A594-C27F375A80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2348B-42E3-4E1B-9C97-899BFE890A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3D8C0-3923-49DD-90EF-0562C562EA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38F3F8-8F86-44F5-AE04-958721E26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F7412C-DB38-4ACE-9A2E-DF5E6C336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95C8E4-A0E2-49EA-8B8A-9AB7A68BB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05BB15-5FAC-473D-B761-386070169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556DBD-6487-478F-AD10-B52CD7D20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919995-1095-4538-9A80-9479D7A92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6F12BB-D1FF-48D1-9AC8-2EC637089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1E267-8695-446A-80D9-FB05FAEF1F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8CCAD7-6F1F-4C8B-B815-974619933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74DC4C-5258-4BC9-A6D5-56DC4EC28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3C210B-A2F7-49E4-82D3-EE7639505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59BD25-8E8A-43FA-A8B8-7FA0C7F80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9B49B6-3859-4E99-8700-2B5F3C336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27E102-4FF4-4DD3-992F-732A13349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018AD8-209E-46F3-AF39-CC184C30F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65C625-F33C-42D2-A063-413F54894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619CBB-EC5C-4F75-9B08-E958FAD83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99DAE4-8A94-48F7-B491-117B5BF81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0BB35-D0C0-4145-A56A-308CE059933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D45CD8-21F2-47E8-ADC5-120AFD1B7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4CB05E-4B03-4F71-92A0-0FDB74A3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E39FDF-E92C-4321-9A2C-F7FF771FD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808738-1514-41AA-8F92-FFADF69D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E9EE4B-31E8-46B0-8AA0-A81B21ED2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87FDA3-6AC1-4BBC-808D-31519E887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9DB390-AC10-45A1-A672-130CABC62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FE9AB2-1515-4601-B915-82DE71DE3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51F65F-072E-4524-BBA9-D475A1979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581022-FBA0-427C-9B23-CA0546937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21050-65B5-4A93-B115-4FBAD79FF1B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3B13B5-59DB-49A9-A63A-43F7A6D1B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64485A-33F8-4C94-BA80-E457E6444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A8E310-B1BD-42E4-83FD-4162F9763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9705D2-3D39-4010-A5FD-684BE81BC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4C8695-BC73-40F2-8D61-36C79151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AC316B-AC10-491A-8DE8-B3C1E1E7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B8F0FB-F33C-4793-9881-50ADD249C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FA6C0F-9264-45DC-AE3E-5B9C76B11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CE9611-F66B-4BB8-B2CB-23239FDD3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51369-D288-4930-97E2-9F7DA14667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583EC-5DBD-47FE-91A0-52D066EBA2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D346B-71EB-4644-BD7E-D555CC3BA9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2D12C-DDDB-47F5-AFF3-9D7F343BC8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985FE-E80B-400B-9DB2-4968E52ADA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ihand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ihand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468000" y="6356520"/>
            <a:ext cx="55515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3B09D-1BBD-458A-B0CB-52B346798CD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uppieren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7" name="Freihand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8" name="Freihand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" name="Freihand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1" name="Freihand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Freihand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Freihand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1" name="Gruppieren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2" name="Freihand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3" name="Freihand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5" name="Freihand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6" name="Freihand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7A722-FC84-4F8F-BC13-9694CD3F1A56}" type="datetime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CE86B-584F-42DF-B60C-F187971A23BF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reihand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Freihand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1" name="Gruppieren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2" name="Freihand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3" name="Freihand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5" name="Freihand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6" name="Freihand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B1751-15D4-41BF-A33D-7E9AD4A77574}" type="datetime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E0291-D200-47A5-BE1F-74BC5B61DDC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Eine Ecke des Rechtecks schneiden und abrunden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Rechtwinkliges Dreieck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Freihand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ihand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43833-6136-42EA-B784-5587CCF0DA29}" type="datetime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1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AAD09-3F88-459C-BD43-73E1DC9437F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Titel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Christina Blöchl - Lehramtsstudierende an der Universität Passa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0" spc="-1" strike="noStrike">
                <a:solidFill>
                  <a:srgbClr val="04617b"/>
                </a:solidFill>
                <a:latin typeface="Calibri"/>
              </a:rPr>
              <a:t>Zustandsdiagram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6" name="Grafik 3" descr=""/>
          <p:cNvPicPr/>
          <p:nvPr/>
        </p:nvPicPr>
        <p:blipFill>
          <a:blip r:embed="rId1"/>
          <a:stretch/>
        </p:blipFill>
        <p:spPr>
          <a:xfrm>
            <a:off x="714240" y="2214720"/>
            <a:ext cx="7286760" cy="392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tina Blöchl - Lehramtsstudierende an der Universität Passa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0" spc="-1" strike="noStrike">
                <a:solidFill>
                  <a:srgbClr val="04617b"/>
                </a:solidFill>
                <a:latin typeface="Calibri"/>
              </a:rPr>
              <a:t>Zustandsdiagram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Ein Zustandsdiagramm besteht aus </a:t>
            </a:r>
            <a:r>
              <a:rPr b="1" lang="de-DE" sz="2600" spc="-1" strike="noStrike">
                <a:solidFill>
                  <a:srgbClr val="0f6fc6"/>
                </a:solidFill>
                <a:latin typeface="Constantia"/>
              </a:rPr>
              <a:t>Zuständen</a:t>
            </a: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 und deren Übergänge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Ein </a:t>
            </a:r>
            <a:r>
              <a:rPr b="1" lang="de-DE" sz="2600" spc="-1" strike="noStrike">
                <a:solidFill>
                  <a:srgbClr val="0f6fc6"/>
                </a:solidFill>
                <a:latin typeface="Constantia"/>
              </a:rPr>
              <a:t>Zustandsübergang</a:t>
            </a:r>
            <a:r>
              <a:rPr b="0" lang="de-DE" sz="2600" spc="-1" strike="noStrike">
                <a:solidFill>
                  <a:srgbClr val="0f6fc6"/>
                </a:solidFill>
                <a:latin typeface="Constantia"/>
              </a:rPr>
              <a:t> </a:t>
            </a: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verbindet zwei Zuständ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Ein Zustandsübergang wird stets durch ein </a:t>
            </a:r>
            <a:r>
              <a:rPr b="1" lang="de-DE" sz="2600" spc="-1" strike="noStrike">
                <a:solidFill>
                  <a:srgbClr val="0f6fc6"/>
                </a:solidFill>
                <a:latin typeface="Constantia"/>
              </a:rPr>
              <a:t>Ereignis</a:t>
            </a: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 ausgelös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Grafik 4" descr=""/>
          <p:cNvPicPr/>
          <p:nvPr/>
        </p:nvPicPr>
        <p:blipFill>
          <a:blip r:embed="rId1"/>
          <a:stretch/>
        </p:blipFill>
        <p:spPr>
          <a:xfrm>
            <a:off x="4572000" y="2714760"/>
            <a:ext cx="4143240" cy="2428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tina Blöchl - Lehramtsstudierende an der Universität Passa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0" spc="-1" strike="noStrike">
                <a:solidFill>
                  <a:srgbClr val="04617b"/>
                </a:solidFill>
                <a:latin typeface="Calibri"/>
              </a:rPr>
              <a:t>Zustandsüberga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928800" y="2643120"/>
            <a:ext cx="7348320" cy="214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tina Blöchl - Lehramtsstudierende an der Universität Passa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0" spc="-1" strike="noStrike">
                <a:solidFill>
                  <a:srgbClr val="04617b"/>
                </a:solidFill>
                <a:latin typeface="Calibri"/>
              </a:rPr>
              <a:t>Zustandsdiagram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20960"/>
            <a:ext cx="482904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Der </a:t>
            </a:r>
            <a:r>
              <a:rPr b="1" lang="de-DE" sz="2600" spc="-1" strike="noStrike">
                <a:solidFill>
                  <a:srgbClr val="0f6fc6"/>
                </a:solidFill>
                <a:latin typeface="Constantia"/>
              </a:rPr>
              <a:t>Anfangszustand</a:t>
            </a:r>
            <a:r>
              <a:rPr b="1" lang="de-DE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kennzeichnet den Startpunkt aller Abläuf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In einem Zustandsdiagramm gibt es genau einen Anfangszustan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4" name="Grafik 4" descr=""/>
          <p:cNvPicPr/>
          <p:nvPr/>
        </p:nvPicPr>
        <p:blipFill>
          <a:blip r:embed="rId1"/>
          <a:stretch/>
        </p:blipFill>
        <p:spPr>
          <a:xfrm>
            <a:off x="5715000" y="3000240"/>
            <a:ext cx="2857680" cy="142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tina Blöchl - Lehramtsstudierende an der Universität Passa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0" spc="-1" strike="noStrike">
                <a:solidFill>
                  <a:srgbClr val="04617b"/>
                </a:solidFill>
                <a:latin typeface="Calibri"/>
              </a:rPr>
              <a:t>Zustandsdiagram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20960"/>
            <a:ext cx="447192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f6fc6"/>
                </a:solidFill>
                <a:latin typeface="Constantia"/>
              </a:rPr>
              <a:t>Endzustände </a:t>
            </a: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kennzeichnen Endpunkt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Aus einem Endzustand führen keine Übergänge herau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In einem Zustandsdiagramm sind kein, ein oder mehrere Endzustände möglich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Grafik 4" descr=""/>
          <p:cNvPicPr/>
          <p:nvPr/>
        </p:nvPicPr>
        <p:blipFill>
          <a:blip r:embed="rId1"/>
          <a:stretch/>
        </p:blipFill>
        <p:spPr>
          <a:xfrm>
            <a:off x="5214960" y="3000240"/>
            <a:ext cx="3643200" cy="1714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tina Blöchl - Lehramtsstudierende an der Universität Passa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500" spc="-1" strike="noStrike">
                <a:solidFill>
                  <a:srgbClr val="04617b"/>
                </a:solidFill>
                <a:latin typeface="Calibri"/>
              </a:rPr>
              <a:t>Wofür braucht man Zustandsdiagramme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28760" y="2500200"/>
            <a:ext cx="8229600" cy="19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Planen der Bedienungsabläufe von Bankautomaten, Mobiltelefonen, MP3-Spielern, 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tina Blöchl - Lehramtsstudierende an der Universität Passa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17:56:37Z</dcterms:created>
  <dc:creator>Christina Blöchl</dc:creator>
  <dc:description/>
  <dc:language>en-US</dc:language>
  <cp:lastModifiedBy>AndreaGerschke</cp:lastModifiedBy>
  <dcterms:modified xsi:type="dcterms:W3CDTF">2008-06-28T13:35:34Z</dcterms:modified>
  <cp:revision>3</cp:revision>
  <dc:subject/>
  <dc:title>Zustandsdiagramme</dc:title>
</cp:coreProperties>
</file>