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wmf" ContentType="image/x-wmf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0B2-C3A5-42A4-8011-568F3F79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719-908B-47FB-99DD-18AEB7DD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1B7-F194-477C-8F3E-88DB88EF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0CE-1DE5-4CA3-98BE-C559F9AE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8504-10A2-40CD-9716-B9974B75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CD30-F2C8-4DAD-876D-FCAEF54D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79C9-D03B-463A-AF93-80642F73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F731-CEF8-4F8B-A6F4-79389FC0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0217-F9C5-43C0-8876-158C4265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4F13-17CD-4F7C-B100-08774EC6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9339-9EBE-495A-98C4-F1A9FF2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547-A7EA-4EB1-8BEA-880BEC04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8B16-BB81-4B9F-B951-D894E6E6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9095-F957-456A-8E73-6F1F8D2C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9675-FA3D-4293-8707-89E6B037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EDC5-4B17-4CCE-814B-21750F61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FB97-81CB-4661-8044-E23AA153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D25C-874D-40C5-9800-C6BF684B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EBEF-86B0-4D3C-91D5-EBD4AAF3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47DD-A3C3-474F-A284-73AFD6F3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C27A-85AA-493A-8C30-E98FEA4D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F745A-2326-42B5-ACBF-48968D27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1D2-CBC0-4DA7-90C7-CC19C7F0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3CEB-B607-42BB-A4E3-70D0ADD6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18CF-AADC-42F1-BF9F-DCEDAF3E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82F7-4A2F-4DAF-9B80-F6788FD9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C796-2CD0-4D70-B5FF-191E6B42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29F6-5EF2-4C44-8339-57C23EF9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6958-35E9-4868-A84B-66277274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AB88-18BF-4789-B004-77AA7BA9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C4CC8-380E-4EC2-9ED7-D03AF542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BA624-1FB9-4BAA-903D-C37BBAF6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BA62-E0CA-4AD5-8531-B0297ACF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7D4-7AAB-4A37-8CE4-A797D530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25F8D-2652-4249-A20E-C2978D1C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BE426-8990-4A78-8B37-88919951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DEDA-1966-43E3-8799-F6CE2B0F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61051-6C2F-4943-BB8A-A034756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5FDC-43C1-4BA5-B1CE-13231A2A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C9AC8-322B-4D7D-A016-FEAB0734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EABE-09BB-4F6A-AB4F-9D5B3464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366CF-E79C-4D88-9397-5AE924FE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9064-0D77-41B2-A62A-4A74E311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FB8-1999-4A32-BD91-BE6E2589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7E8-A8A8-4970-8A3B-C5E495BB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5C9-FED0-421D-9975-09ABC035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850-9AB3-4182-9C6B-0AAA074F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100-4CC3-4F17-BA8D-2FADDE50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ihand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4351-C504-44BF-8A71-84B15B2A9C98}" type="datetime">
              <a:rPr b="0" lang="de-DE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11BD-3C30-4BF0-A669-F3186EB0D1BD}" type="slidenum">
              <a:rPr b="0" lang="de-D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ihand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ihand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ihand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ihand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8595-ED43-4EAC-9D21-2C1D908B5F13}" type="datetime">
              <a:rPr b="0" lang="de-DE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3514-FEBA-4126-BC6E-9E6A8D2D1AA2}" type="slidenum">
              <a:rPr b="0" lang="de-D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ihand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ihand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ihand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8A4-F55D-4BD5-90FC-413AC181938A}" type="datetime">
              <a:rPr b="0" lang="de-DE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8D5-3C9D-4C3E-8A17-6599C51F04F7}" type="slidenum">
              <a:rPr b="0" lang="de-D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ine Ecke des Rechtecks schneiden und abrunden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winkliges Dreiec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ihand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ihand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6710-EB46-4D13-A295-46B9CC55FE8E}" type="datetime">
              <a:rPr b="0" lang="de-DE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BCE6-1833-413B-9166-154675A811D1}" type="slidenum">
              <a:rPr b="0" lang="de-D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ußzeilenplatzhalter 1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Titel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Beziehungen zwischen Objekt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Beziehungen zwischen Klass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ußzeilenplatzhalter 21"/>
          <p:cNvSpPr/>
          <p:nvPr/>
        </p:nvSpPr>
        <p:spPr>
          <a:xfrm>
            <a:off x="4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eziehung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it Beziehungen können Zusammenhänge zwischen Objekten beschrieben werd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nn Objekte Beziehungen pflegen, dann können sie Dienste nutzen, die von ihren Partnerobjekten angeboten werd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21"/>
          <p:cNvSpPr/>
          <p:nvPr/>
        </p:nvSpPr>
        <p:spPr>
          <a:xfrm>
            <a:off x="4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Beziehungen zwischen Objekte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20960"/>
            <a:ext cx="4686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eziehungen zwischen Objekten werden im </a:t>
            </a:r>
            <a:r>
              <a:rPr b="1" lang="de-DE" sz="2600" spc="-1" strike="noStrike">
                <a:solidFill>
                  <a:srgbClr val="004e6d"/>
                </a:solidFill>
                <a:latin typeface="Constantia"/>
              </a:rPr>
              <a:t>Objektdiagramm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durch Verbindungslinien dargestel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eziehungen können Namen erhalt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er Pfeil am Namen gibt die Leserichtung 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Inhaltsplatzhalter 4" descr=""/>
          <p:cNvPicPr/>
          <p:nvPr/>
        </p:nvPicPr>
        <p:blipFill>
          <a:blip r:embed="rId1"/>
          <a:stretch/>
        </p:blipFill>
        <p:spPr>
          <a:xfrm>
            <a:off x="5286240" y="2428920"/>
            <a:ext cx="3429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ußzeilenplatzhalter 21"/>
          <p:cNvSpPr/>
          <p:nvPr/>
        </p:nvSpPr>
        <p:spPr>
          <a:xfrm>
            <a:off x="4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eziehungen zwischen Klass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8290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ögliche Beziehungen zwischen Objekten verschiedener Klassen werden in einem </a:t>
            </a:r>
            <a:r>
              <a:rPr b="1" lang="de-DE" sz="2600" spc="-1" strike="noStrike">
                <a:solidFill>
                  <a:srgbClr val="000000"/>
                </a:solidFill>
                <a:latin typeface="Constantia"/>
              </a:rPr>
              <a:t>Klassendiagramm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dargestell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Inhaltsplatzhalter 4" descr=""/>
          <p:cNvPicPr/>
          <p:nvPr/>
        </p:nvPicPr>
        <p:blipFill>
          <a:blip r:embed="rId1"/>
          <a:stretch/>
        </p:blipFill>
        <p:spPr>
          <a:xfrm>
            <a:off x="5357880" y="3000240"/>
            <a:ext cx="31431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ußzeilenplatzhalter 21"/>
          <p:cNvSpPr/>
          <p:nvPr/>
        </p:nvSpPr>
        <p:spPr>
          <a:xfrm>
            <a:off x="4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Objektdiagramm - Klassendiagram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Objektdiagramm: „Wer“ steht mit „wem“ in einer bestimmten Situation in Beziehu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Klassendiagramm: Welche Beziehungen können Objekte einer Klasse prinzipiell pflege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Inhaltsplatzhalter 4" descr=""/>
          <p:cNvPicPr/>
          <p:nvPr/>
        </p:nvPicPr>
        <p:blipFill>
          <a:blip r:embed="rId1"/>
          <a:stretch/>
        </p:blipFill>
        <p:spPr>
          <a:xfrm>
            <a:off x="785880" y="400068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213" name="Inhaltsplatzhalter 4" descr=""/>
          <p:cNvPicPr/>
          <p:nvPr/>
        </p:nvPicPr>
        <p:blipFill>
          <a:blip r:embed="rId2"/>
          <a:stretch/>
        </p:blipFill>
        <p:spPr>
          <a:xfrm>
            <a:off x="5000760" y="4500720"/>
            <a:ext cx="31431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ußzeilenplatzhalter 21"/>
          <p:cNvSpPr/>
          <p:nvPr/>
        </p:nvSpPr>
        <p:spPr>
          <a:xfrm>
            <a:off x="4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Titel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785880" y="2428920"/>
            <a:ext cx="3537000" cy="242892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4"/>
          <p:cNvSpPr/>
          <p:nvPr/>
        </p:nvSpPr>
        <p:spPr>
          <a:xfrm>
            <a:off x="857160" y="5286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tantia"/>
              </a:rPr>
              <a:t>Objektdiagramm der Geschäftsbeziehungen zwischen Metzgern(links) und Bäckern (rech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5"/>
          <p:cNvSpPr/>
          <p:nvPr/>
        </p:nvSpPr>
        <p:spPr>
          <a:xfrm>
            <a:off x="5072040" y="592920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tantia"/>
              </a:rPr>
              <a:t>Klassendiagramm zu Geschäftsbeziehungen zwischen Metzgern und Bäck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28116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ußzeilenplatzhalter 21"/>
          <p:cNvSpPr/>
          <p:nvPr/>
        </p:nvSpPr>
        <p:spPr>
          <a:xfrm>
            <a:off x="4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Titel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214200" y="2643120"/>
            <a:ext cx="8643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ußzeilenplatzhalter 21"/>
          <p:cNvSpPr/>
          <p:nvPr/>
        </p:nvSpPr>
        <p:spPr>
          <a:xfrm>
            <a:off x="4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hristina Blöchl - Lehramtsstudierende an der Universität Pass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Weitere Beispie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286000" y="2428920"/>
            <a:ext cx="4646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1:17:28Z</dcterms:created>
  <dc:creator>Christina Blöchl</dc:creator>
  <dc:description/>
  <dc:language>en-US</dc:language>
  <cp:lastModifiedBy>Ute Heuer</cp:lastModifiedBy>
  <dcterms:modified xsi:type="dcterms:W3CDTF">2008-09-01T13:02:23Z</dcterms:modified>
  <cp:revision>7</cp:revision>
  <dc:subject/>
  <dc:title>Beziehungen</dc:title>
</cp:coreProperties>
</file>