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dt" idx="6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08E10-79E7-4DDA-B505-DCA8100CC3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0AB9F-7157-43F9-80F3-95765D17F4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E017C-67E0-450D-B11A-0DD9DC379B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D91FE-0DF6-4C7C-8A28-D3FE2BFB02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D8FDA-64F1-4841-A68F-0CE8D9EF4D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5DD45-09BD-4F4E-9471-DFD3583C51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B73B8-88F2-47C5-AE46-79F20B3CDF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A7621-0746-4E31-A0CD-94081B1D35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1D9F2-EAB7-4F8A-888F-FF9C08F6AE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414B-CF02-4D74-BA02-AFDB4DEFA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DE4D-07D4-4836-920E-0612A8B61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0270-2AD0-4588-921B-5A07E235D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C712-F9C3-4DA5-AD0B-4611603F2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9A6C5-E295-44D9-B999-562CC073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95CD3-B5D6-4C61-8A30-79EF2447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79A88-B133-4E5F-A69C-1E027CA9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87BE2-3E91-42B4-AE87-C0A37886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E61A6-29D7-4949-954C-099D4C17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04720" y="503280"/>
            <a:ext cx="907272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E17B7-2692-4421-8867-888363BA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693B5-AD99-4767-9F0D-0B157838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ED86-9647-4D0B-BE2D-E404B76D7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A57F6-9962-4296-B5D6-129577AA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2CE01-B6C4-444A-BD95-7BEFC821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BA954-50AC-43FF-B74A-CC50CA00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4D47B-1AD0-43D3-9239-B7C8D611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7228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39840" y="218412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0472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7228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639840" y="4421160"/>
            <a:ext cx="292104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FB5A7-E5E1-42B5-ABFA-6B8E54E1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60D6-AC2F-4B10-8F1E-7BB46AE96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AB68-0A70-45DD-A7FF-D3CB3CA4C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52EE-F541-473B-B5F3-B2A0D4870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503280"/>
            <a:ext cx="907272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9BCA-B334-4DBB-A00C-5B44DD984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21F6-8E9B-4F03-9814-AE23196C5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42116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A2D5-FA7A-44B4-8087-90F677E4C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2184120"/>
            <a:ext cx="442728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421160"/>
            <a:ext cx="9072720" cy="204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1A36-93BC-42AB-B111-48B10E369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02920" y="7092720"/>
            <a:ext cx="7561080" cy="29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9FAD97-D8CD-44D8-8979-2BBA4653B878}" type="slidenum">
              <a:rPr b="0" lang="de-DE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80360" cy="601200"/>
            <a:chOff x="0" y="0"/>
            <a:chExt cx="10080360" cy="6012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15000" cy="587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5040" y="148680"/>
              <a:ext cx="9625320" cy="30024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1440" y="148680"/>
              <a:ext cx="151920" cy="155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3360" y="0"/>
              <a:ext cx="153720" cy="151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03360" y="148680"/>
              <a:ext cx="153720" cy="155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302760" y="302400"/>
              <a:ext cx="150120" cy="150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5080" y="150120"/>
              <a:ext cx="155520" cy="1519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51440" y="298800"/>
              <a:ext cx="151920" cy="151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02760" y="451080"/>
              <a:ext cx="150120" cy="150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988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40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75440" indent="-23940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54600" indent="-23940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80360" cy="7559280"/>
            <a:chOff x="0" y="0"/>
            <a:chExt cx="10080360" cy="755928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864240" cy="755928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91800" y="1863360"/>
              <a:ext cx="8188560" cy="279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175760"/>
              <a:ext cx="3160080" cy="3480120"/>
              <a:chOff x="0" y="1175760"/>
              <a:chExt cx="3160080" cy="348012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31440" y="3949200"/>
                <a:ext cx="635040" cy="706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91440" y="1863360"/>
                <a:ext cx="633240" cy="708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514600" y="1175760"/>
                <a:ext cx="645480" cy="699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58200" y="3949200"/>
                <a:ext cx="641880" cy="7066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514600" y="1863360"/>
                <a:ext cx="645480" cy="708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58200" y="2561760"/>
                <a:ext cx="641880" cy="697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561760"/>
                <a:ext cx="641880" cy="6976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91440" y="2561760"/>
                <a:ext cx="633240" cy="697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31440" y="3249360"/>
                <a:ext cx="635040" cy="7102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58200" y="3249360"/>
                <a:ext cx="641880" cy="7102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04720" y="2184120"/>
            <a:ext cx="9072720" cy="428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988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40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75440" indent="-23940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54600" indent="-23940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54600" indent="-239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353697-D0DB-4DF3-B1FD-EEB743EC2BF2}" type="slidenum">
              <a:rPr b="0" lang="de-DE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ußzeilenplatzhalter 3"/>
          <p:cNvSpPr/>
          <p:nvPr/>
        </p:nvSpPr>
        <p:spPr>
          <a:xfrm>
            <a:off x="503280" y="7093080"/>
            <a:ext cx="756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4500" spc="-1" strike="noStrike">
                <a:solidFill>
                  <a:srgbClr val="00007d"/>
                </a:solidFill>
                <a:latin typeface="Arial"/>
              </a:rPr>
              <a:t>Algorithmische Beschreibung von Abläufe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ußzeilenplatzhalter 1"/>
          <p:cNvSpPr/>
          <p:nvPr/>
        </p:nvSpPr>
        <p:spPr>
          <a:xfrm>
            <a:off x="503280" y="7093080"/>
            <a:ext cx="756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504720" y="345960"/>
            <a:ext cx="90694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695600" y="1208160"/>
            <a:ext cx="6750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ußzeilenplatzhalter 1"/>
          <p:cNvSpPr/>
          <p:nvPr/>
        </p:nvSpPr>
        <p:spPr>
          <a:xfrm>
            <a:off x="503280" y="7093080"/>
            <a:ext cx="756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uppieren 14"/>
          <p:cNvGrpSpPr/>
          <p:nvPr/>
        </p:nvGrpSpPr>
        <p:grpSpPr>
          <a:xfrm>
            <a:off x="1325520" y="565200"/>
            <a:ext cx="7715160" cy="6500880"/>
            <a:chOff x="1325520" y="565200"/>
            <a:chExt cx="7715160" cy="6500880"/>
          </a:xfrm>
        </p:grpSpPr>
        <p:pic>
          <p:nvPicPr>
            <p:cNvPr id="119" name="Picture 2" descr=""/>
            <p:cNvPicPr/>
            <p:nvPr/>
          </p:nvPicPr>
          <p:blipFill>
            <a:blip r:embed="rId1"/>
            <a:stretch/>
          </p:blipFill>
          <p:spPr>
            <a:xfrm>
              <a:off x="1325520" y="565200"/>
              <a:ext cx="7715160" cy="650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Gerade Verbindung 5"/>
            <p:cNvSpPr/>
            <p:nvPr/>
          </p:nvSpPr>
          <p:spPr>
            <a:xfrm flipH="1">
              <a:off x="5981400" y="2271600"/>
              <a:ext cx="688680" cy="1512720"/>
            </a:xfrm>
            <a:prstGeom prst="line">
              <a:avLst/>
            </a:prstGeom>
            <a:ln w="9360">
              <a:solidFill>
                <a:srgbClr val="9393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Bogen 6"/>
            <p:cNvSpPr/>
            <p:nvPr/>
          </p:nvSpPr>
          <p:spPr>
            <a:xfrm rot="13342200">
              <a:off x="5952960" y="1983960"/>
              <a:ext cx="1550880" cy="1344600"/>
            </a:xfrm>
            <a:prstGeom prst="pie">
              <a:avLst/>
            </a:prstGeom>
            <a:noFill/>
            <a:ln w="9360">
              <a:solidFill>
                <a:srgbClr val="9393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feld 7"/>
            <p:cNvSpPr/>
            <p:nvPr/>
          </p:nvSpPr>
          <p:spPr>
            <a:xfrm>
              <a:off x="5761080" y="24940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100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Gerade Verbindung 8"/>
            <p:cNvSpPr/>
            <p:nvPr/>
          </p:nvSpPr>
          <p:spPr>
            <a:xfrm>
              <a:off x="6670080" y="2271600"/>
              <a:ext cx="1035000" cy="1512720"/>
            </a:xfrm>
            <a:prstGeom prst="line">
              <a:avLst/>
            </a:prstGeom>
            <a:ln w="9360">
              <a:solidFill>
                <a:srgbClr val="9393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Bogen 9"/>
            <p:cNvSpPr/>
            <p:nvPr/>
          </p:nvSpPr>
          <p:spPr>
            <a:xfrm rot="8152800">
              <a:off x="6332040" y="2096280"/>
              <a:ext cx="861840" cy="841320"/>
            </a:xfrm>
            <a:prstGeom prst="pie">
              <a:avLst/>
            </a:prstGeom>
            <a:noFill/>
            <a:ln w="9360">
              <a:solidFill>
                <a:srgbClr val="9393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feld 10"/>
            <p:cNvSpPr/>
            <p:nvPr/>
          </p:nvSpPr>
          <p:spPr>
            <a:xfrm>
              <a:off x="6859800" y="29941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Gerade Verbindung 11"/>
            <p:cNvSpPr/>
            <p:nvPr/>
          </p:nvSpPr>
          <p:spPr>
            <a:xfrm>
              <a:off x="6670800" y="2271600"/>
              <a:ext cx="1724040" cy="2880"/>
            </a:xfrm>
            <a:prstGeom prst="line">
              <a:avLst/>
            </a:prstGeom>
            <a:ln w="9360">
              <a:solidFill>
                <a:srgbClr val="9393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ihandform 12"/>
            <p:cNvSpPr/>
            <p:nvPr/>
          </p:nvSpPr>
          <p:spPr>
            <a:xfrm>
              <a:off x="6040440" y="1779480"/>
              <a:ext cx="1035000" cy="504720"/>
            </a:xfrm>
            <a:prstGeom prst="pie">
              <a:avLst/>
            </a:prstGeom>
            <a:noFill/>
            <a:ln w="9360">
              <a:solidFill>
                <a:srgbClr val="9393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feld 13"/>
            <p:cNvSpPr/>
            <p:nvPr/>
          </p:nvSpPr>
          <p:spPr>
            <a:xfrm>
              <a:off x="7235280" y="17002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ußzeilenplatzhalter 1"/>
          <p:cNvSpPr/>
          <p:nvPr/>
        </p:nvSpPr>
        <p:spPr>
          <a:xfrm>
            <a:off x="503280" y="7093080"/>
            <a:ext cx="756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20720" y="1260360"/>
            <a:ext cx="4319640" cy="4859280"/>
          </a:xfrm>
          <a:prstGeom prst="rect">
            <a:avLst/>
          </a:prstGeom>
          <a:ln w="0">
            <a:noFill/>
          </a:ln>
        </p:spPr>
      </p:pic>
      <p:grpSp>
        <p:nvGrpSpPr>
          <p:cNvPr id="131" name="Gruppieren 18"/>
          <p:cNvGrpSpPr/>
          <p:nvPr/>
        </p:nvGrpSpPr>
        <p:grpSpPr>
          <a:xfrm>
            <a:off x="5509800" y="1973160"/>
            <a:ext cx="4455360" cy="3668400"/>
            <a:chOff x="5509800" y="1973160"/>
            <a:chExt cx="4455360" cy="3668400"/>
          </a:xfrm>
        </p:grpSpPr>
        <p:pic>
          <p:nvPicPr>
            <p:cNvPr id="132" name="Picture 5" descr=""/>
            <p:cNvPicPr/>
            <p:nvPr/>
          </p:nvPicPr>
          <p:blipFill>
            <a:blip r:embed="rId2"/>
            <a:srcRect l="35500" t="29167" r="5030" b="11029"/>
            <a:stretch/>
          </p:blipFill>
          <p:spPr>
            <a:xfrm>
              <a:off x="5578200" y="2077560"/>
              <a:ext cx="2928960" cy="34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feld 13"/>
            <p:cNvSpPr/>
            <p:nvPr/>
          </p:nvSpPr>
          <p:spPr>
            <a:xfrm>
              <a:off x="8296920" y="3778560"/>
              <a:ext cx="166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Fliessband nicht leer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Gerade Verbindung mit Pfeil 8"/>
            <p:cNvCxnSpPr/>
            <p:nvPr/>
          </p:nvCxnSpPr>
          <p:spPr>
            <a:xfrm flipH="1">
              <a:off x="8363880" y="4350240"/>
              <a:ext cx="286200" cy="72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135" name="Rechteck 10"/>
            <p:cNvSpPr/>
            <p:nvPr/>
          </p:nvSpPr>
          <p:spPr>
            <a:xfrm>
              <a:off x="7792920" y="2491920"/>
              <a:ext cx="571320" cy="285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feld 13"/>
            <p:cNvSpPr/>
            <p:nvPr/>
          </p:nvSpPr>
          <p:spPr>
            <a:xfrm>
              <a:off x="6224760" y="4005000"/>
              <a:ext cx="13586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zum Fliessband]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feld 14"/>
            <p:cNvSpPr/>
            <p:nvPr/>
          </p:nvSpPr>
          <p:spPr>
            <a:xfrm>
              <a:off x="6370920" y="4828320"/>
              <a:ext cx="1915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nicht zum Fliessband]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feld 16"/>
            <p:cNvSpPr/>
            <p:nvPr/>
          </p:nvSpPr>
          <p:spPr>
            <a:xfrm>
              <a:off x="5513760" y="5365080"/>
              <a:ext cx="1915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nicht zum Fliessband]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feld 17"/>
            <p:cNvSpPr/>
            <p:nvPr/>
          </p:nvSpPr>
          <p:spPr>
            <a:xfrm>
              <a:off x="5509800" y="1973160"/>
              <a:ext cx="177336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nicht zum Fliessband]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feld 18"/>
            <p:cNvSpPr/>
            <p:nvPr/>
          </p:nvSpPr>
          <p:spPr>
            <a:xfrm>
              <a:off x="6100200" y="3245040"/>
              <a:ext cx="16545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nicht zum Fliessband]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feld 19"/>
            <p:cNvSpPr/>
            <p:nvPr/>
          </p:nvSpPr>
          <p:spPr>
            <a:xfrm>
              <a:off x="6367680" y="2434680"/>
              <a:ext cx="1358640" cy="44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zum Fliessband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feld 21"/>
            <p:cNvSpPr/>
            <p:nvPr/>
          </p:nvSpPr>
          <p:spPr>
            <a:xfrm>
              <a:off x="6155640" y="3147120"/>
              <a:ext cx="157536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br>
                <a:rPr sz="1100"/>
              </a:b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nicht zum Fliessband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feld 22"/>
            <p:cNvSpPr/>
            <p:nvPr/>
          </p:nvSpPr>
          <p:spPr>
            <a:xfrm>
              <a:off x="7441560" y="3578400"/>
              <a:ext cx="76284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loslas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feld 19"/>
          <p:cNvSpPr/>
          <p:nvPr/>
        </p:nvSpPr>
        <p:spPr>
          <a:xfrm>
            <a:off x="2546640" y="606276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ußzeilenplatzhalter 1"/>
          <p:cNvSpPr/>
          <p:nvPr/>
        </p:nvSpPr>
        <p:spPr>
          <a:xfrm>
            <a:off x="503280" y="7093080"/>
            <a:ext cx="756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20720" y="900000"/>
            <a:ext cx="3959280" cy="5759640"/>
          </a:xfrm>
          <a:prstGeom prst="rect">
            <a:avLst/>
          </a:prstGeom>
          <a:ln w="0">
            <a:noFill/>
          </a:ln>
        </p:spPr>
      </p:pic>
      <p:grpSp>
        <p:nvGrpSpPr>
          <p:cNvPr id="147" name="Gruppieren 4"/>
          <p:cNvGrpSpPr/>
          <p:nvPr/>
        </p:nvGrpSpPr>
        <p:grpSpPr>
          <a:xfrm>
            <a:off x="5509800" y="1973160"/>
            <a:ext cx="4455360" cy="3668400"/>
            <a:chOff x="5509800" y="1973160"/>
            <a:chExt cx="4455360" cy="3668400"/>
          </a:xfrm>
        </p:grpSpPr>
        <p:pic>
          <p:nvPicPr>
            <p:cNvPr id="148" name="Picture 5" descr=""/>
            <p:cNvPicPr/>
            <p:nvPr/>
          </p:nvPicPr>
          <p:blipFill>
            <a:blip r:embed="rId2"/>
            <a:srcRect l="35500" t="29167" r="5030" b="11029"/>
            <a:stretch/>
          </p:blipFill>
          <p:spPr>
            <a:xfrm>
              <a:off x="5578200" y="2077560"/>
              <a:ext cx="2928960" cy="34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feld 13"/>
            <p:cNvSpPr/>
            <p:nvPr/>
          </p:nvSpPr>
          <p:spPr>
            <a:xfrm>
              <a:off x="8296920" y="3778560"/>
              <a:ext cx="166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Fliessband nicht leer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Gerade Verbindung mit Pfeil 8"/>
            <p:cNvCxnSpPr/>
            <p:nvPr/>
          </p:nvCxnSpPr>
          <p:spPr>
            <a:xfrm flipH="1">
              <a:off x="8363880" y="4350240"/>
              <a:ext cx="286200" cy="72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151" name="Rechteck 10"/>
            <p:cNvSpPr/>
            <p:nvPr/>
          </p:nvSpPr>
          <p:spPr>
            <a:xfrm>
              <a:off x="7792920" y="2491920"/>
              <a:ext cx="571320" cy="285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feld 13"/>
            <p:cNvSpPr/>
            <p:nvPr/>
          </p:nvSpPr>
          <p:spPr>
            <a:xfrm>
              <a:off x="6224760" y="4005000"/>
              <a:ext cx="13586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zum Fliessband]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feld 14"/>
            <p:cNvSpPr/>
            <p:nvPr/>
          </p:nvSpPr>
          <p:spPr>
            <a:xfrm>
              <a:off x="6370920" y="4828320"/>
              <a:ext cx="1915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nicht zum Fliessband]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feld 16"/>
            <p:cNvSpPr/>
            <p:nvPr/>
          </p:nvSpPr>
          <p:spPr>
            <a:xfrm>
              <a:off x="5513760" y="5365080"/>
              <a:ext cx="1915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nicht zum Fliessband]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feld 17"/>
            <p:cNvSpPr/>
            <p:nvPr/>
          </p:nvSpPr>
          <p:spPr>
            <a:xfrm>
              <a:off x="5509800" y="1973160"/>
              <a:ext cx="177336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nicht zum Fliessband]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feld 18"/>
            <p:cNvSpPr/>
            <p:nvPr/>
          </p:nvSpPr>
          <p:spPr>
            <a:xfrm>
              <a:off x="6100200" y="3245040"/>
              <a:ext cx="16545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nicht zum Fliessband]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feld 19"/>
            <p:cNvSpPr/>
            <p:nvPr/>
          </p:nvSpPr>
          <p:spPr>
            <a:xfrm>
              <a:off x="6367680" y="2434680"/>
              <a:ext cx="1358640" cy="44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zum Fliessband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feld 21"/>
            <p:cNvSpPr/>
            <p:nvPr/>
          </p:nvSpPr>
          <p:spPr>
            <a:xfrm>
              <a:off x="6155640" y="3147120"/>
              <a:ext cx="157536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br>
                <a:rPr sz="1100"/>
              </a:b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nicht zum Fliessband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feld 22"/>
            <p:cNvSpPr/>
            <p:nvPr/>
          </p:nvSpPr>
          <p:spPr>
            <a:xfrm>
              <a:off x="7441560" y="3578400"/>
              <a:ext cx="76284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loslas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ußzeilenplatzhalter 1"/>
          <p:cNvSpPr/>
          <p:nvPr/>
        </p:nvSpPr>
        <p:spPr>
          <a:xfrm>
            <a:off x="503280" y="7093080"/>
            <a:ext cx="756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539640" y="2519280"/>
            <a:ext cx="4500720" cy="2700360"/>
          </a:xfrm>
          <a:prstGeom prst="rect">
            <a:avLst/>
          </a:prstGeom>
          <a:ln w="0">
            <a:noFill/>
          </a:ln>
        </p:spPr>
      </p:pic>
      <p:grpSp>
        <p:nvGrpSpPr>
          <p:cNvPr id="162" name="Gruppieren 4"/>
          <p:cNvGrpSpPr/>
          <p:nvPr/>
        </p:nvGrpSpPr>
        <p:grpSpPr>
          <a:xfrm>
            <a:off x="5509800" y="1973160"/>
            <a:ext cx="4455360" cy="3668400"/>
            <a:chOff x="5509800" y="1973160"/>
            <a:chExt cx="4455360" cy="3668400"/>
          </a:xfrm>
        </p:grpSpPr>
        <p:pic>
          <p:nvPicPr>
            <p:cNvPr id="163" name="Picture 5" descr=""/>
            <p:cNvPicPr/>
            <p:nvPr/>
          </p:nvPicPr>
          <p:blipFill>
            <a:blip r:embed="rId2"/>
            <a:srcRect l="35500" t="29167" r="5030" b="11029"/>
            <a:stretch/>
          </p:blipFill>
          <p:spPr>
            <a:xfrm>
              <a:off x="5578200" y="2077560"/>
              <a:ext cx="2928960" cy="34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feld 13"/>
            <p:cNvSpPr/>
            <p:nvPr/>
          </p:nvSpPr>
          <p:spPr>
            <a:xfrm>
              <a:off x="8296920" y="3778560"/>
              <a:ext cx="166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Fliessband nicht leer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Gerade Verbindung mit Pfeil 8"/>
            <p:cNvCxnSpPr/>
            <p:nvPr/>
          </p:nvCxnSpPr>
          <p:spPr>
            <a:xfrm flipH="1">
              <a:off x="8363880" y="4350240"/>
              <a:ext cx="286200" cy="72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166" name="Rechteck 10"/>
            <p:cNvSpPr/>
            <p:nvPr/>
          </p:nvSpPr>
          <p:spPr>
            <a:xfrm>
              <a:off x="7792920" y="2491920"/>
              <a:ext cx="571320" cy="285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feld 13"/>
            <p:cNvSpPr/>
            <p:nvPr/>
          </p:nvSpPr>
          <p:spPr>
            <a:xfrm>
              <a:off x="6224760" y="4005000"/>
              <a:ext cx="13586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zum Fliessband]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feld 14"/>
            <p:cNvSpPr/>
            <p:nvPr/>
          </p:nvSpPr>
          <p:spPr>
            <a:xfrm>
              <a:off x="6370920" y="4828320"/>
              <a:ext cx="1915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nicht zum Fliessband]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feld 16"/>
            <p:cNvSpPr/>
            <p:nvPr/>
          </p:nvSpPr>
          <p:spPr>
            <a:xfrm>
              <a:off x="5513760" y="5365080"/>
              <a:ext cx="1915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nicht zum Fliessband]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feld 17"/>
            <p:cNvSpPr/>
            <p:nvPr/>
          </p:nvSpPr>
          <p:spPr>
            <a:xfrm>
              <a:off x="5509800" y="1973160"/>
              <a:ext cx="177336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nicht zum Fliessband]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feld 18"/>
            <p:cNvSpPr/>
            <p:nvPr/>
          </p:nvSpPr>
          <p:spPr>
            <a:xfrm>
              <a:off x="6100200" y="3245040"/>
              <a:ext cx="16545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nicht zum Fliessband]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feld 19"/>
            <p:cNvSpPr/>
            <p:nvPr/>
          </p:nvSpPr>
          <p:spPr>
            <a:xfrm>
              <a:off x="6367680" y="2434680"/>
              <a:ext cx="1358640" cy="44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zum Fliessband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feld 21"/>
            <p:cNvSpPr/>
            <p:nvPr/>
          </p:nvSpPr>
          <p:spPr>
            <a:xfrm>
              <a:off x="6155640" y="3147120"/>
              <a:ext cx="157536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rehen</a:t>
              </a:r>
              <a:br>
                <a:rPr sz="1100"/>
              </a:b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[nicht zum Fliessband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feld 22"/>
            <p:cNvSpPr/>
            <p:nvPr/>
          </p:nvSpPr>
          <p:spPr>
            <a:xfrm>
              <a:off x="7441560" y="3578400"/>
              <a:ext cx="76284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loslas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1"/>
          <p:cNvSpPr/>
          <p:nvPr/>
        </p:nvSpPr>
        <p:spPr>
          <a:xfrm>
            <a:off x="503280" y="7093080"/>
            <a:ext cx="756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225440" y="1079640"/>
            <a:ext cx="2914920" cy="5583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5734080" y="2882880"/>
            <a:ext cx="2905200" cy="143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3"/>
          <a:stretch/>
        </p:blipFill>
        <p:spPr>
          <a:xfrm>
            <a:off x="5695920" y="1033560"/>
            <a:ext cx="2943360" cy="1666800"/>
          </a:xfrm>
          <a:prstGeom prst="rect">
            <a:avLst/>
          </a:prstGeom>
          <a:ln w="0">
            <a:noFill/>
          </a:ln>
        </p:spPr>
      </p:pic>
      <p:sp>
        <p:nvSpPr>
          <p:cNvPr id="179" name="Rechteck 5"/>
          <p:cNvSpPr/>
          <p:nvPr/>
        </p:nvSpPr>
        <p:spPr>
          <a:xfrm>
            <a:off x="1111320" y="851040"/>
            <a:ext cx="328608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hteck 6"/>
          <p:cNvSpPr/>
          <p:nvPr/>
        </p:nvSpPr>
        <p:spPr>
          <a:xfrm>
            <a:off x="1263600" y="1003320"/>
            <a:ext cx="328608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hteck 7"/>
          <p:cNvSpPr/>
          <p:nvPr/>
        </p:nvSpPr>
        <p:spPr>
          <a:xfrm>
            <a:off x="754200" y="3708360"/>
            <a:ext cx="15714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8"/>
          <p:cNvSpPr/>
          <p:nvPr/>
        </p:nvSpPr>
        <p:spPr>
          <a:xfrm>
            <a:off x="189000" y="285120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ußzeilenplatzhalter 1"/>
          <p:cNvSpPr/>
          <p:nvPr/>
        </p:nvSpPr>
        <p:spPr>
          <a:xfrm>
            <a:off x="503280" y="7093080"/>
            <a:ext cx="756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86407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ußzeilenplatzhalter 1"/>
          <p:cNvSpPr/>
          <p:nvPr/>
        </p:nvSpPr>
        <p:spPr>
          <a:xfrm>
            <a:off x="503280" y="7093080"/>
            <a:ext cx="756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6119640" y="2160720"/>
            <a:ext cx="3673800" cy="251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457200" y="2452680"/>
            <a:ext cx="3502080" cy="2340000"/>
          </a:xfrm>
          <a:prstGeom prst="rect">
            <a:avLst/>
          </a:prstGeom>
          <a:ln w="0">
            <a:noFill/>
          </a:ln>
        </p:spPr>
      </p:pic>
      <p:sp>
        <p:nvSpPr>
          <p:cNvPr id="188" name="Line 3"/>
          <p:cNvSpPr/>
          <p:nvPr/>
        </p:nvSpPr>
        <p:spPr>
          <a:xfrm>
            <a:off x="3780000" y="32400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959280" y="2879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759280" y="2879640"/>
            <a:ext cx="30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400720" y="5580000"/>
            <a:ext cx="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140360" y="6840360"/>
            <a:ext cx="18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500720" y="3419640"/>
            <a:ext cx="107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uert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 b</dc:creator>
  <dc:description/>
  <dc:language>en-US</dc:language>
  <cp:lastModifiedBy>Ute Heuer</cp:lastModifiedBy>
  <dcterms:modified xsi:type="dcterms:W3CDTF">2008-09-01T15:19:36Z</dcterms:modified>
  <cp:revision>9</cp:revision>
  <dc:subject/>
  <dc:title>Folie 1</dc:title>
</cp:coreProperties>
</file>