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46B0-3411-4040-A6FD-AAD393C68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45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9B84-AE53-4A9A-9B58-3FCA57A27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F338-3944-4E83-AA13-2647EAD39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45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45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45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31EF-AC24-45C0-A232-11A95AE3E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8D3F-8A02-43B7-B6E0-EB45FD065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5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45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45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45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45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7D16-FA9F-4F1E-9823-35CF40FB1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2ABE-F3BC-42FE-A81B-D991ACD43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DC42-2B40-4DD9-9BFA-7D15A1D79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AED8-7D66-4B0A-A0DE-21B3DD559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4D1E-37F6-4F73-B79D-7381C387E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45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D304-BADD-417F-9B9C-444208FB0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5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BA2A-CFCB-45D7-81EB-E0D811095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0080" y="6597720"/>
            <a:ext cx="55515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9556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75BA-AC85-4BDF-941C-4239545BBD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50880"/>
            <a:ext cx="9144000" cy="546120"/>
            <a:chOff x="0" y="65088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6508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78588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78588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65088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78588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92556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78732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92232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106056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16720" y="57240"/>
            <a:ext cx="257184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hat das ganze mit Objekten zu 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 haben bis jetzt geseh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tandsdiagramme für ein Buch einer Bibliothek, für einen MP3-Spieler, für eine Konzert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Zustandsdiagramm kann in ein objektorientiertes Programm umgesetzt werden, dann gi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ch, MP3-Spieler, Konzertkarte sind unsere Ob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Objekte müssen ihren Zustand speichern, damit sie wissen, wie sie sich bei einem Ereignis zu verhalten hab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Zustand wird in den Attributen gespeich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Ereignis wird durch einen Methodenaufruf ausgelö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745F-180F-421C-85E7-AD8B6BCEE6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gelöste Ak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hen nach ein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ägst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03640" y="1341360"/>
            <a:ext cx="4486320" cy="494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A2BB-72B2-46B0-B1DC-6A78E29695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tandsüberg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127640" cy="7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E411-70E2-4765-ABA4-DF97F8A92A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spiel: Kaffeeauto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Kaffeeautomat bietet mehrere Getränke 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s Getränk kostet gleich vi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Benutzer des Automaten muss so lange Münzen einwerfen, bis die Summe der Münzwerte den Getränkepreis erreicht 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chließend kann er ein Getränk wäh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Automat reagiert auf die Getränkewah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 der Ausgabe eines entspreche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füllten Bec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t wenn der Becher aus dem Fach herausgenommen wird, kann ein neues Getränk geord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2276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04000" y="3213000"/>
            <a:ext cx="1992240" cy="22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45AF-AC40-4DD3-BF82-3A2F48D350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standsdiagramm entwi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201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ahme: Getränkepreis ist 20 C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2316240"/>
            <a:ext cx="3541680" cy="25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29C0-7568-4B43-A3B2-82ECC4011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standsdiagramm entwi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Nutzer hat genügend Münzen eingeworf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nn befindet sich der Automat im Zust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ezahl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319640" cy="41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DEB0-C537-47FC-92A3-CAA2BE14B3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standsdiagramm entwi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Nutzer hat genügend Münzen eingeworf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nn befindet sich der Automat im Zust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ezahl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Nutzer kann jetz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n Getränk wäh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368460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07C0-8229-4624-A1D5-972CC0739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standsdiagramm entwi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Nutzer hat genügend Münzen eingeworf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nn befindet sich der Automat im Zust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ezahl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Nutzer kann jetz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n Getränk wäh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nimmt der Nutzer den Becher, dann kann ein neues Getränk angeforder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6094440"/>
            <a:ext cx="889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azi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ues Modell muss her oder wir müssen unser altes erwei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397656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3E1A-A718-4047-8C41-553BBCB2F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tandsübergang mit Beding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Ereign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ünze einwerf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öst nur dann einen Zustandsübergang v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re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zah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, wenn die Überprüfung der Bedingung genug bezahlt den Wert wahr lief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ingungen werden in [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88000" y="1773360"/>
            <a:ext cx="3239280" cy="4247280"/>
            <a:chOff x="4788000" y="1773360"/>
            <a:chExt cx="3239280" cy="4247280"/>
          </a:xfrm>
        </p:grpSpPr>
        <p:grpSp>
          <p:nvGrpSpPr>
            <p:cNvPr id="126" name=""/>
            <p:cNvGrpSpPr/>
            <p:nvPr/>
          </p:nvGrpSpPr>
          <p:grpSpPr>
            <a:xfrm>
              <a:off x="4788000" y="1773360"/>
              <a:ext cx="3239280" cy="4247280"/>
              <a:chOff x="4788000" y="1773360"/>
              <a:chExt cx="3239280" cy="42472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01320" y="1773360"/>
                <a:ext cx="2896560" cy="399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4788000" y="4579200"/>
                <a:ext cx="2775240" cy="1441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93560" y="3062520"/>
                <a:ext cx="1233720" cy="1819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6684840" y="3290040"/>
              <a:ext cx="978840" cy="50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0121-7DD4-4520-9A9E-50AA9A8254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tandsübergang mit Beding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Ereign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ünze einwerf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öst nur dann einen Zustandsübergang v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re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zah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, wenn die Überprüfung der Bedingung genug bezahlt den Wert wahr lief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ingungen werden in [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802040" y="1773360"/>
            <a:ext cx="3225960" cy="3998880"/>
            <a:chOff x="4802040" y="1773360"/>
            <a:chExt cx="3225960" cy="399888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802040" y="1773360"/>
              <a:ext cx="28958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794640" y="3062160"/>
              <a:ext cx="1233360" cy="2095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84840" y="3290760"/>
              <a:ext cx="979560" cy="50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59640" y="4653000"/>
              <a:ext cx="979560" cy="50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E3A0-1930-4846-B012-191C1F8EBF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tandsübergang mit Beding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Ereign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ünze einwerf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öst nur dann einen Zustandsübergang v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re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zah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, wenn die Überprüfung der Bedingung genug bezahlt den Wert wahr lief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ingungen werden in [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02040" y="1773360"/>
            <a:ext cx="2895840" cy="39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sanne Ritzer - Lehramtsstudierende an der Universität Passa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BF11-4627-4B91-B797-A7FFDDA10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8:40:09Z</dcterms:created>
  <dc:creator/>
  <dc:description/>
  <dc:language>en-US</dc:language>
  <cp:lastModifiedBy>AndreaGerschke</cp:lastModifiedBy>
  <dcterms:modified xsi:type="dcterms:W3CDTF">2008-06-28T13:30:02Z</dcterms:modified>
  <cp:revision>92</cp:revision>
  <dc:subject/>
  <dc:title>Figuren malen und bewege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9349775</vt:r8>
  </property>
  <property fmtid="{D5CDD505-2E9C-101B-9397-08002B2CF9AE}" pid="3" name="_AuthorEmail">
    <vt:lpwstr>heuer@fmi.uni-passau.de</vt:lpwstr>
  </property>
  <property fmtid="{D5CDD505-2E9C-101B-9397-08002B2CF9AE}" pid="4" name="_AuthorEmailDisplayName">
    <vt:lpwstr>Ute Heuer</vt:lpwstr>
  </property>
  <property fmtid="{D5CDD505-2E9C-101B-9397-08002B2CF9AE}" pid="5" name="_EmailSubject">
    <vt:lpwstr>Grundprogramm - aktuelle Version</vt:lpwstr>
  </property>
  <property fmtid="{D5CDD505-2E9C-101B-9397-08002B2CF9AE}" pid="6" name="_ReviewingToolsShownOnce">
    <vt:lpwstr/>
  </property>
</Properties>
</file>