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A18FE4-7FB0-46DE-881B-DE4C46CEAD9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59F01D-1EC7-4BDD-A95B-1211299654C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0331A4-4899-422B-A5B3-3745FD0F49A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917A92-F2CA-450C-9E68-1DD52B50506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7B100D-0FC1-4E9D-93CB-966AFEFA8AA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C3A7DC-9AD8-4AB4-ACC1-B4FDC1FECF7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757607-D326-426F-9B42-048E369FC8D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D100BB-9B34-41C3-9BA6-331E175F662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DA74-41BE-4FA4-BEE6-A4D00D2B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CE34-A653-4A86-BCB0-E1907ED0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DD9F-4F61-4FA3-AED0-92882920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F16F-13D0-4703-BD11-CCB5AEC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21A70-CDA9-4A64-9D9C-7897874E7B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2C590-B0C9-4E27-9465-E9C8E1F70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660EB-F7E5-42A0-BC67-955332DC2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5C1C7-8F35-45E6-B750-DF22B37FBB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FEAE3-B851-433B-B2D5-DBBE5E17A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67F65-023D-4828-BFEB-3D4DB62C8C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1D39-940A-446B-B7C4-A0F7B9423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B0A9-63C0-468D-BA46-3F41EFC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64F62-46A5-48E3-BBCB-755DF7D45D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651DD-A5F0-4127-A4DD-E8FD1C2E5C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12BAA-9C6F-4E85-9278-64EDAE740C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634BC-9269-4889-8611-F4FCC3ABA4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EF45-43FA-44C4-93B5-CE90C9B5C1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9E52B-4331-4D88-9E9B-B3DEDAA4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45702-959C-4AD1-A14B-4382C9A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0A4EF-338B-48F3-8B76-C328E7F7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B9578-6836-4650-82D0-2E1967FA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6ED8F-3BC1-4A3A-958D-90A5D0E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ACC2-B751-4B24-AF64-B54EFD3A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0C2F0-C528-4252-9843-60DB6A6F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17FCC-A92F-4BD4-8D57-EBF5332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43F16-A6AA-4469-A893-60D2268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7E7B1-E5D4-41F6-9262-ED2F8E3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8EBB1-30DC-4D8D-879E-F41BBC5D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0D90A-E08D-49A2-BD90-42931D89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EE0D9-FB1B-4AAB-AD36-682B0BCF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CD4B2-5005-49B6-9BC7-028CBBA4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E4D9C-0CA7-49F9-9955-0A36694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8CF85-7A85-48B0-8E02-E92B2EEC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2ED3-1927-4E0B-9D99-D6183D5B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92FEE-1E6E-4FB3-B3A7-792374C8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AEA3C-8A65-4B96-982A-046CB1D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C3DD3-D81E-43FA-A284-D85CEC4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4B9D2-0274-455B-98F2-1F42D9D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B154C-2A37-4101-AFDE-BD7C8DC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8D131-B0EE-4D14-8172-D8CF12C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E39F1-2401-4239-AC79-21B155C8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CE81A-4ABE-4A1E-9BBD-A3386E78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46DC9-F7ED-4BDF-944C-BA779396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0AC1-0538-4C8B-8546-232BA28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C6F6-29F3-4671-8FF2-4B7DD944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009C-18F9-4077-8337-C6D127A0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5128-1479-4318-BB7D-1985D12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419D-D6D4-40D5-BFBB-C32E34E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9987-3FA9-4D9B-9FFB-79F847B19F97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052640"/>
            <a:ext cx="9144000" cy="546120"/>
            <a:chOff x="0" y="105264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10526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1876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1876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10526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1876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13273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1890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13240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14623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468000" y="6453000"/>
            <a:ext cx="684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DEB-4588-4753-ADE6-5B37D3302AB0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1052640"/>
            <a:ext cx="9144000" cy="546120"/>
            <a:chOff x="0" y="105264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10526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1876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18764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105264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18764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132732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18908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132408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146232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9250-4269-4336-B200-49E173F594CF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0C1-CC8D-45C3-942D-C3A611D1B5ED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Robotersimul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Wiederholung und Auswah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ußzeilenplatzhalter 3"/>
          <p:cNvSpPr/>
          <p:nvPr/>
        </p:nvSpPr>
        <p:spPr>
          <a:xfrm>
            <a:off x="468360" y="6453360"/>
            <a:ext cx="684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iederholung mit fester Anz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ser Fabrikroboter soll nun 17 Kugeln hintereinander in den To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en la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des Algorithmus mithilfe einer Sequenz indem 17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lgende Arbeitsschritte formuli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m um 100° im Gegenuhrzeigersinn dr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gel los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m um 100° im Uhrzeigersinn dr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gel grei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gorithmus besteht aus 68 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ht es nicht auch kürz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ußzeilenplatzhalter 3"/>
          <p:cNvSpPr/>
          <p:nvPr/>
        </p:nvSpPr>
        <p:spPr>
          <a:xfrm>
            <a:off x="468360" y="6453360"/>
            <a:ext cx="684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iederholung mit fester Anz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mit Hilfe einer Wiederholung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43000" y="3786120"/>
          <a:ext cx="6095880" cy="1854360"/>
        </p:xfrm>
        <a:graphic>
          <a:graphicData uri="http://schemas.openxmlformats.org/drawingml/2006/table">
            <a:tbl>
              <a:tblPr/>
              <a:tblGrid>
                <a:gridCol w="1143000"/>
                <a:gridCol w="4952880"/>
              </a:tblGrid>
              <a:tr h="371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 um 100° im Gegenuhrzeigersinn dre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gel losl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 um 100° im Uhrzeigersinn dre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gel grei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feld 7"/>
          <p:cNvSpPr/>
          <p:nvPr/>
        </p:nvSpPr>
        <p:spPr>
          <a:xfrm>
            <a:off x="1473840" y="3805200"/>
            <a:ext cx="1873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derhole 17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ußzeilenplatzhalter 3"/>
          <p:cNvSpPr/>
          <p:nvPr/>
        </p:nvSpPr>
        <p:spPr>
          <a:xfrm>
            <a:off x="468360" y="6453360"/>
            <a:ext cx="684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ie Anweisung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for(…) {…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eibe die Method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ugelnTransportieren(int 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Klassendefinition der Klas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ublic void kugelnTransportieren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c0c0c0"/>
                </a:solidFill>
                <a:latin typeface="Arial"/>
              </a:rPr>
              <a:t>// wiederhole n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or (int i = 0; i &lt; n; i = i +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drehen(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loslass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drehen(-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greif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ußzeilenplatzhalter 3"/>
          <p:cNvSpPr/>
          <p:nvPr/>
        </p:nvSpPr>
        <p:spPr>
          <a:xfrm>
            <a:off x="468360" y="6453360"/>
            <a:ext cx="684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edingte Wiederho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tzt wollen wir mit unserem Roboter eine weiße Kugel fi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eisseKugelFinden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kunft über die Farbe bekommen wir mit sondierender Metho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hatGegriffen(„weiss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753080" cy="2544840"/>
          </a:xfrm>
          <a:prstGeom prst="rect">
            <a:avLst/>
          </a:prstGeom>
          <a:ln w="0">
            <a:noFill/>
          </a:ln>
        </p:spPr>
      </p:pic>
      <p:sp>
        <p:nvSpPr>
          <p:cNvPr id="236" name="Rechteck 5"/>
          <p:cNvSpPr/>
          <p:nvPr/>
        </p:nvSpPr>
        <p:spPr>
          <a:xfrm>
            <a:off x="2357280" y="2928960"/>
            <a:ext cx="46436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ck 6"/>
          <p:cNvSpPr/>
          <p:nvPr/>
        </p:nvSpPr>
        <p:spPr>
          <a:xfrm>
            <a:off x="3286080" y="5000760"/>
            <a:ext cx="35719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ußzeilenplatzhalter 3"/>
          <p:cNvSpPr/>
          <p:nvPr/>
        </p:nvSpPr>
        <p:spPr>
          <a:xfrm>
            <a:off x="468360" y="6453360"/>
            <a:ext cx="684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edingte Wiederho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829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ublic void weisseKugelFinde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hile(!roboter.hatGegriffen(„weiss“)) { </a:t>
            </a:r>
            <a:r>
              <a:rPr b="0" i="1" lang="de-DE" sz="1800" spc="-1" strike="noStrike">
                <a:solidFill>
                  <a:srgbClr val="c0c0c0"/>
                </a:solidFill>
                <a:latin typeface="Arial"/>
              </a:rPr>
              <a:t>//solange die Farbe nicht weiß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c0c0c0"/>
                </a:solidFill>
                <a:latin typeface="Arial"/>
              </a:rPr>
              <a:t>// transpor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drehen(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loslass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drehen(-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oboter.greif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ußzeilenplatzhalter 3"/>
          <p:cNvSpPr/>
          <p:nvPr/>
        </p:nvSpPr>
        <p:spPr>
          <a:xfrm>
            <a:off x="468360" y="6453360"/>
            <a:ext cx="684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uswah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ufga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reibe eine Meth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oteKugelnSortieren(int n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sollen insgesamt n Kugeln sortiert werden. Rote kommen in Topf 1, die anderen in Topf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8:15:35Z</dcterms:created>
  <dc:creator>Judith Voigtländer</dc:creator>
  <dc:description/>
  <dc:language>en-US</dc:language>
  <cp:lastModifiedBy>Ute Heuer</cp:lastModifiedBy>
  <dcterms:modified xsi:type="dcterms:W3CDTF">2008-09-01T15:55:31Z</dcterms:modified>
  <cp:revision>26</cp:revision>
  <dc:subject/>
  <dc:title>Initialisierung von Objekten</dc:title>
</cp:coreProperties>
</file>