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-11798280" y="-11796840"/>
            <a:ext cx="117950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-11798280" y="-11796840"/>
            <a:ext cx="117950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-14225760" y="-11796840"/>
            <a:ext cx="166514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253-49E5-4F8C-BA49-28DB8603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A931-31FE-416A-835A-311479DF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B2D2-68FF-4A05-B85F-D196995B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3FF3-9679-44D6-863B-82E9A783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FF18D-3593-449C-90DE-E1CC6BB647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B55E7-0BA5-413C-BC1B-A71C0D3CD9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DBD5E-C44F-42E5-BDEB-AE522899FB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8106A-BED0-4F61-A122-5F84BB5E52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66A77-A50C-4C81-9D4C-79225CEAFD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DAF83-A86C-44B9-B6D8-F5D33A0806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90015-F65B-4D24-8120-EB2087FB02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785-6826-4E3E-ABD6-3FD183FA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6CB7F-F333-4599-9853-06A9EB1FD6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1D5B7-000E-4090-861A-5FB58AA45B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6CBAC-20ED-42A5-9F00-3DA83B5B85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11DA8-B176-4CBC-8449-DEF40DB8F7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0D462-B5F7-45E7-BEFC-F0AB1354C6C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7DB8F-37BD-4ED2-91B4-93F12563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AE23E-7A27-4BDA-8CDB-AE04036D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A434E-1DDA-45F2-A940-79663F3D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5C1EA-9E78-4DC6-BF73-5775DA73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08BDB-DAA8-4765-8F8A-9CFB410E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302-BB40-40EF-A91F-3EDB2511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39557-3774-4CA5-A3EF-AF2F01CB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3A10A4-9B15-4256-970F-D5805634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6A8E9-2FC0-4B33-826E-E4027ACF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37FFB-0F27-465F-A0ED-C5C5CEC9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25B13-EE22-449A-9538-79D6D26E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4818A-D1E0-4F07-8887-51AF421C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0541B-D852-4D08-9DB6-93EC2AB0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3840-3E1A-4641-8A69-B8319490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E3B4-2E1E-46CE-9AFE-4597D6E9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657-092C-4B8B-BA84-5920808A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080-2658-4BDA-9A3B-D2ED9456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BD7-6825-49B0-B663-1D1F44CA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8A81-EDD1-4A6F-BB6A-E13E68F1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1" name="Group 2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5" name="Rectangle 6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Irina Maile, Judith Voigtländer - Lehramtsstudierende an der Universität Pass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7B8F13-F27A-4D0C-90E3-F7D9CA78E72B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4"/>
          </p:nvPr>
        </p:nvSpPr>
        <p:spPr>
          <a:xfrm>
            <a:off x="468360" y="6453000"/>
            <a:ext cx="66960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75AC25-3B32-4AFC-9138-030554138C33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25B847-1593-4EAE-B620-E30BA5246609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ußzeilenplatzhalter 3"/>
          <p:cNvSpPr/>
          <p:nvPr/>
        </p:nvSpPr>
        <p:spPr>
          <a:xfrm>
            <a:off x="468360" y="6453360"/>
            <a:ext cx="66960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324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Arial"/>
              </a:rPr>
              <a:t>Metho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ndierende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ändernde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ußzeilenplatzhalter 3"/>
          <p:cNvSpPr/>
          <p:nvPr/>
        </p:nvSpPr>
        <p:spPr>
          <a:xfrm>
            <a:off x="468360" y="6453360"/>
            <a:ext cx="66960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640" y="2204640"/>
            <a:ext cx="8229600" cy="9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1560" indent="0">
              <a:spcBef>
                <a:spcPts val="700"/>
              </a:spcBef>
              <a:buNone/>
              <a:tabLst>
                <a:tab algn="l" pos="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i="1" lang="en-GB" sz="2200" spc="-1" strike="noStrike">
                <a:solidFill>
                  <a:srgbClr val="004586"/>
                </a:solidFill>
                <a:latin typeface="Arial"/>
              </a:rPr>
              <a:t>void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preisAendern (double neuerPreis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preis = neuerPrei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ändernde Methoden geben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kein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ert zurü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halb schreibt man statt des Rückgabetyps das Wort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voi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r den Methodennamen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 Anweisung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return..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t überflüss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560" indent="0">
              <a:spcBef>
                <a:spcPts val="700"/>
              </a:spcBef>
              <a:buNone/>
              <a:tabLst>
                <a:tab algn="l" pos="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1560" indent="0">
              <a:spcBef>
                <a:spcPts val="700"/>
              </a:spcBef>
              <a:buNone/>
              <a:tabLst>
                <a:tab algn="l" pos="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1560" indent="0">
              <a:spcBef>
                <a:spcPts val="799"/>
              </a:spcBef>
              <a:buNone/>
              <a:tabLst>
                <a:tab algn="l" pos="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560" indent="0">
              <a:spcBef>
                <a:spcPts val="799"/>
              </a:spcBef>
              <a:buNone/>
              <a:tabLst>
                <a:tab algn="l" pos="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560" indent="0">
              <a:spcBef>
                <a:spcPts val="799"/>
              </a:spcBef>
              <a:buNone/>
              <a:tabLst>
                <a:tab algn="l" pos="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560" indent="0">
              <a:spcBef>
                <a:spcPts val="799"/>
              </a:spcBef>
              <a:buNone/>
              <a:tabLst>
                <a:tab algn="l" pos="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560" indent="0">
              <a:spcBef>
                <a:spcPts val="799"/>
              </a:spcBef>
              <a:buNone/>
              <a:tabLst>
                <a:tab algn="l" pos="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560" indent="0">
              <a:spcBef>
                <a:spcPts val="799"/>
              </a:spcBef>
              <a:buNone/>
              <a:tabLst>
                <a:tab algn="l" pos="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560" indent="0">
              <a:spcBef>
                <a:spcPts val="799"/>
              </a:spcBef>
              <a:buNone/>
              <a:tabLst>
                <a:tab algn="l" pos="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560" indent="0">
              <a:spcBef>
                <a:spcPts val="799"/>
              </a:spcBef>
              <a:buNone/>
              <a:tabLst>
                <a:tab algn="l" pos="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5219640" y="2519280"/>
            <a:ext cx="180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319640" y="1994040"/>
            <a:ext cx="2170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4586"/>
                </a:solidFill>
                <a:latin typeface="Arial"/>
              </a:rPr>
              <a:t>Eingangsparame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ußzeilenplatzhalter 3"/>
          <p:cNvSpPr/>
          <p:nvPr/>
        </p:nvSpPr>
        <p:spPr>
          <a:xfrm>
            <a:off x="468360" y="6453360"/>
            <a:ext cx="66960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7979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Bedeutung der verändernden Meth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reignisse in Zustandsdiagrammen können mit Hilfe von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verändernden Method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ein objektorientiertes Programm umgesetzt werd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ußzeilenplatzhalter 3"/>
          <p:cNvSpPr/>
          <p:nvPr/>
        </p:nvSpPr>
        <p:spPr>
          <a:xfrm>
            <a:off x="468360" y="6453360"/>
            <a:ext cx="66960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77961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Zustandsdiagramm einer Eintritts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8459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ußzeilenplatzhalter 1"/>
          <p:cNvSpPr/>
          <p:nvPr/>
        </p:nvSpPr>
        <p:spPr>
          <a:xfrm>
            <a:off x="468360" y="6453360"/>
            <a:ext cx="66960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1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5040360" cy="3600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2"/>
          <p:cNvSpPr/>
          <p:nvPr/>
        </p:nvSpPr>
        <p:spPr>
          <a:xfrm>
            <a:off x="755640" y="907920"/>
            <a:ext cx="7540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ktogramm der Methode 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</a:rPr>
              <a:t>reservieren()</a:t>
            </a:r>
            <a:r>
              <a:rPr b="0" i="1" lang="ar-SA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ußzeilenplatzhalter 1"/>
          <p:cNvSpPr/>
          <p:nvPr/>
        </p:nvSpPr>
        <p:spPr>
          <a:xfrm>
            <a:off x="468360" y="6453360"/>
            <a:ext cx="66960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4140360" cy="27968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"/>
          <p:cNvSpPr/>
          <p:nvPr/>
        </p:nvSpPr>
        <p:spPr>
          <a:xfrm>
            <a:off x="395280" y="1052640"/>
            <a:ext cx="7877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nflussdiagramm der Methode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</a:rPr>
              <a:t>equals()</a:t>
            </a:r>
            <a:r>
              <a:rPr b="0" i="1" lang="ar-SA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ußzeilenplatzhalter 4"/>
          <p:cNvSpPr/>
          <p:nvPr/>
        </p:nvSpPr>
        <p:spPr>
          <a:xfrm>
            <a:off x="468360" y="6453360"/>
            <a:ext cx="66960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0920" y="549000"/>
            <a:ext cx="79930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344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msetzung in Java mit Hilfe der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eding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344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nweis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344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37520"/>
                <a:tab algn="l" pos="10051920"/>
                <a:tab algn="l" pos="10329840"/>
                <a:tab algn="l" pos="10779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344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37520"/>
                <a:tab algn="l" pos="10051920"/>
                <a:tab algn="l" pos="10329840"/>
                <a:tab algn="l" pos="10779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344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37520"/>
                <a:tab algn="l" pos="10051920"/>
                <a:tab algn="l" pos="10329840"/>
                <a:tab algn="l" pos="10779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344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344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(zustand.equals(„verfuegbar“)) 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344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zustand = „reserviert“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344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344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37520"/>
                <a:tab algn="l" pos="10051920"/>
                <a:tab algn="l" pos="10329840"/>
                <a:tab algn="l" pos="10779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344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4284720" y="2205000"/>
            <a:ext cx="180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Bedingu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084720" y="4149720"/>
            <a:ext cx="1838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Anweisu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4"/>
          <p:cNvSpPr/>
          <p:nvPr/>
        </p:nvSpPr>
        <p:spPr>
          <a:xfrm flipH="1">
            <a:off x="4929120" y="4437000"/>
            <a:ext cx="912960" cy="1800"/>
          </a:xfrm>
          <a:prstGeom prst="line">
            <a:avLst/>
          </a:prstGeom>
          <a:ln w="360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 flipH="1">
            <a:off x="3344760" y="2781360"/>
            <a:ext cx="733680" cy="720720"/>
          </a:xfrm>
          <a:prstGeom prst="line">
            <a:avLst/>
          </a:prstGeom>
          <a:ln w="360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ußzeilenplatzhalter 4"/>
          <p:cNvSpPr/>
          <p:nvPr/>
        </p:nvSpPr>
        <p:spPr>
          <a:xfrm>
            <a:off x="468360" y="6453360"/>
            <a:ext cx="66960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41720" cy="37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50920" y="179280"/>
            <a:ext cx="8424720" cy="10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Tahoma"/>
              </a:rPr>
              <a:t>I. Sondierende Metho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eben dem Nutzer eine angeforde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"/>
              </a:rPr>
              <a:t>Information zurü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Ändern den Zustand des Objekts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nich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3564000" y="3573360"/>
            <a:ext cx="900000" cy="1079640"/>
          </a:xfrm>
          <a:prstGeom prst="downArrow">
            <a:avLst>
              <a:gd name="adj1" fmla="val 50000"/>
              <a:gd name="adj2" fmla="val 29990"/>
            </a:avLst>
          </a:prstGeom>
          <a:solidFill>
            <a:srgbClr val="00007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2"/>
          <p:cNvSpPr/>
          <p:nvPr/>
        </p:nvSpPr>
        <p:spPr>
          <a:xfrm>
            <a:off x="468360" y="6453360"/>
            <a:ext cx="66960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9328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Beisp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1440000" y="3021120"/>
            <a:ext cx="648000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i="1" lang="en-GB" sz="2200" spc="-1" strike="noStrike">
                <a:solidFill>
                  <a:srgbClr val="004586"/>
                </a:solidFill>
                <a:latin typeface="Arial"/>
              </a:rPr>
              <a:t>double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preisGeben() 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200" spc="-1" strike="noStrike">
                <a:solidFill>
                  <a:srgbClr val="004586"/>
                </a:solidFill>
                <a:latin typeface="Arial"/>
              </a:rPr>
              <a:t>return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prei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1800360" y="2519280"/>
            <a:ext cx="144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2700360" y="2519280"/>
            <a:ext cx="144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 flipV="1">
            <a:off x="3132000" y="3933720"/>
            <a:ext cx="1800" cy="72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968400" y="1979640"/>
            <a:ext cx="1371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4586"/>
                </a:solidFill>
                <a:latin typeface="Arial"/>
              </a:rPr>
              <a:t>Sichtbarke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2452680" y="1994040"/>
            <a:ext cx="1508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4586"/>
                </a:solidFill>
                <a:latin typeface="Arial"/>
              </a:rPr>
              <a:t>Rückgabety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2340000" y="4869000"/>
            <a:ext cx="1633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4586"/>
                </a:solidFill>
                <a:latin typeface="Arial"/>
              </a:rPr>
              <a:t>Rückgabew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ußzeilenplatzhalter 3"/>
          <p:cNvSpPr/>
          <p:nvPr/>
        </p:nvSpPr>
        <p:spPr>
          <a:xfrm>
            <a:off x="468360" y="6453360"/>
            <a:ext cx="66960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836640"/>
            <a:ext cx="779796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Beispi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7777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t der Methode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mehrwertsteuerGeben()</a:t>
            </a:r>
            <a:r>
              <a:rPr b="0" i="1" lang="ar-SA" sz="2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l die Mehrwertsteuer aus dem Bruttopre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rechnet werden kön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ußzeilenplatzhalter 2"/>
          <p:cNvSpPr/>
          <p:nvPr/>
        </p:nvSpPr>
        <p:spPr>
          <a:xfrm>
            <a:off x="468360" y="6453360"/>
            <a:ext cx="66960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970200" y="620640"/>
            <a:ext cx="604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atenflussdiagramm der Methode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Tahoma"/>
              </a:rPr>
              <a:t>mehrwertsteuerGeben()</a:t>
            </a:r>
            <a:r>
              <a:rPr b="0" i="1" lang="ar-SA" sz="2800" spc="-1" strike="noStrike">
                <a:solidFill>
                  <a:srgbClr val="333399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692360" y="2546280"/>
          <a:ext cx="5257800" cy="43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546280"/>
                    <a:ext cx="52578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6"/>
          <p:cNvSpPr/>
          <p:nvPr/>
        </p:nvSpPr>
        <p:spPr>
          <a:xfrm>
            <a:off x="4643640" y="2637000"/>
            <a:ext cx="73404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33cc33"/>
                </a:solidFill>
                <a:latin typeface="Arial"/>
              </a:rPr>
              <a:t>pre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ußzeilenplatzhalter 3"/>
          <p:cNvSpPr/>
          <p:nvPr/>
        </p:nvSpPr>
        <p:spPr>
          <a:xfrm>
            <a:off x="468360" y="6453360"/>
            <a:ext cx="66960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748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320480"/>
                <a:tab algn="l" pos="10769760"/>
                <a:tab algn="l" pos="10772640"/>
                <a:tab algn="l" pos="107791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320480"/>
                <a:tab algn="l" pos="10769760"/>
                <a:tab algn="l" pos="10772640"/>
                <a:tab algn="l" pos="10779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lokale Varia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arf nicht mit dem </a:t>
            </a:r>
            <a:r>
              <a:rPr b="0" lang="en-GB" sz="2400" spc="-1" strike="noStrike">
                <a:solidFill>
                  <a:srgbClr val="00cc00"/>
                </a:solidFill>
                <a:latin typeface="Arial"/>
              </a:rPr>
              <a:t>Attrib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320480"/>
                <a:tab algn="l" pos="10769760"/>
                <a:tab algn="l" pos="10772640"/>
                <a:tab algn="l" pos="10779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ner Klasse verwechsel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320480"/>
                <a:tab algn="l" pos="10769760"/>
                <a:tab algn="l" pos="10772640"/>
                <a:tab algn="l" pos="10779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320480"/>
                <a:tab algn="l" pos="10769760"/>
                <a:tab algn="l" pos="10772640"/>
                <a:tab algn="l" pos="10779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320480"/>
                <a:tab algn="l" pos="10769760"/>
                <a:tab algn="l" pos="10772640"/>
                <a:tab algn="l" pos="1077912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ublic class Eintrittskart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320480"/>
                <a:tab algn="l" pos="10769760"/>
                <a:tab algn="l" pos="10772640"/>
                <a:tab algn="l" pos="1077912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cc00"/>
                </a:solidFill>
                <a:latin typeface="Arial"/>
              </a:rPr>
              <a:t>private double preis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320480"/>
                <a:tab algn="l" pos="10769760"/>
                <a:tab algn="l" pos="10772640"/>
                <a:tab algn="l" pos="10779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320480"/>
                <a:tab algn="l" pos="10769760"/>
                <a:tab algn="l" pos="10772640"/>
                <a:tab algn="l" pos="1077912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ublic double mehrwertsteuerGeben(double mwstsatz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320480"/>
                <a:tab algn="l" pos="10769760"/>
                <a:tab algn="l" pos="10772640"/>
                <a:tab algn="l" pos="1077912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double mehrwertsteuer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320480"/>
                <a:tab algn="l" pos="10769760"/>
                <a:tab algn="l" pos="10772640"/>
                <a:tab algn="l" pos="1077912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ehrwertsteuer = preis / (100 + mwstsatz) * mwstsat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320480"/>
                <a:tab algn="l" pos="10769760"/>
                <a:tab algn="l" pos="10772640"/>
                <a:tab algn="l" pos="1077912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turn mehrwertsteu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320480"/>
                <a:tab algn="l" pos="10769760"/>
                <a:tab algn="l" pos="10772640"/>
                <a:tab algn="l" pos="1077912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320480"/>
                <a:tab algn="l" pos="10769760"/>
                <a:tab algn="l" pos="10772640"/>
                <a:tab algn="l" pos="1077912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320480"/>
                <a:tab algn="l" pos="10769760"/>
                <a:tab algn="l" pos="10772640"/>
                <a:tab algn="l" pos="1077912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ußzeilenplatzhalter 3"/>
          <p:cNvSpPr/>
          <p:nvPr/>
        </p:nvSpPr>
        <p:spPr>
          <a:xfrm>
            <a:off x="468360" y="6453360"/>
            <a:ext cx="66960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1"/>
          <p:cNvGrpSpPr/>
          <p:nvPr/>
        </p:nvGrpSpPr>
        <p:grpSpPr>
          <a:xfrm>
            <a:off x="1332000" y="981000"/>
            <a:ext cx="6646320" cy="4320720"/>
            <a:chOff x="1332000" y="981000"/>
            <a:chExt cx="6646320" cy="4320720"/>
          </a:xfrm>
        </p:grpSpPr>
        <p:sp>
          <p:nvSpPr>
            <p:cNvPr id="190" name="Rectangle 2"/>
            <p:cNvSpPr/>
            <p:nvPr/>
          </p:nvSpPr>
          <p:spPr>
            <a:xfrm>
              <a:off x="4378680" y="4137120"/>
              <a:ext cx="3597840" cy="11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ine Änderung des Wer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at keinen direkten Einflu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uf den Objektzustan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3"/>
            <p:cNvSpPr/>
            <p:nvPr/>
          </p:nvSpPr>
          <p:spPr>
            <a:xfrm>
              <a:off x="1332000" y="4137120"/>
              <a:ext cx="3046680" cy="11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Bei Änderung d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rtes ändert sich d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bjektzustan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4"/>
            <p:cNvSpPr/>
            <p:nvPr/>
          </p:nvSpPr>
          <p:spPr>
            <a:xfrm>
              <a:off x="4378680" y="2973960"/>
              <a:ext cx="3597840" cy="11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ird nach Ausführung der Methode vernicht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5"/>
            <p:cNvSpPr/>
            <p:nvPr/>
          </p:nvSpPr>
          <p:spPr>
            <a:xfrm>
              <a:off x="1332000" y="2973960"/>
              <a:ext cx="3046680" cy="11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xistiert, solange das Objekt existier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4378680" y="1810800"/>
              <a:ext cx="3597840" cy="11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hr Name ist nur innerhalb einer Methode bekannt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>
              <a:off x="1332000" y="1810800"/>
              <a:ext cx="3046680" cy="11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in Name ist innerhalb der Klasse bekannt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378680" y="981000"/>
              <a:ext cx="359784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Lokale Variab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>
              <a:off x="1332000" y="981000"/>
              <a:ext cx="3046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cc00"/>
                  </a:solidFill>
                  <a:latin typeface="Arial"/>
                </a:rPr>
                <a:t>Attribu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0"/>
            <p:cNvSpPr/>
            <p:nvPr/>
          </p:nvSpPr>
          <p:spPr>
            <a:xfrm>
              <a:off x="1332000" y="981000"/>
              <a:ext cx="6644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1"/>
            <p:cNvSpPr/>
            <p:nvPr/>
          </p:nvSpPr>
          <p:spPr>
            <a:xfrm>
              <a:off x="1332000" y="1810800"/>
              <a:ext cx="664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1332000" y="2973960"/>
              <a:ext cx="6644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>
              <a:off x="1332000" y="4137120"/>
              <a:ext cx="664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4"/>
            <p:cNvSpPr/>
            <p:nvPr/>
          </p:nvSpPr>
          <p:spPr>
            <a:xfrm>
              <a:off x="1332000" y="5300280"/>
              <a:ext cx="6644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1332000" y="981000"/>
              <a:ext cx="1080" cy="43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4378680" y="981000"/>
              <a:ext cx="1440" cy="431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7"/>
            <p:cNvSpPr/>
            <p:nvPr/>
          </p:nvSpPr>
          <p:spPr>
            <a:xfrm>
              <a:off x="7976880" y="981000"/>
              <a:ext cx="1440" cy="43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ußzeilenplatzhalter 2"/>
          <p:cNvSpPr/>
          <p:nvPr/>
        </p:nvSpPr>
        <p:spPr>
          <a:xfrm>
            <a:off x="468360" y="6453360"/>
            <a:ext cx="66960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1187280" y="836640"/>
            <a:ext cx="7685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lassenkarte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Eintrittskart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mit sondierende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thoden und deren </a:t>
            </a: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Rückgabety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817720" y="2160720"/>
            <a:ext cx="2924280" cy="2562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2484360" y="2133720"/>
            <a:ext cx="3780000" cy="3240000"/>
          </a:xfrm>
          <a:prstGeom prst="rect">
            <a:avLst/>
          </a:prstGeom>
          <a:ln w="0">
            <a:noFill/>
          </a:ln>
        </p:spPr>
      </p:pic>
      <p:sp>
        <p:nvSpPr>
          <p:cNvPr id="210" name="Line 4"/>
          <p:cNvSpPr/>
          <p:nvPr/>
        </p:nvSpPr>
        <p:spPr>
          <a:xfrm flipV="1">
            <a:off x="3600360" y="4856040"/>
            <a:ext cx="1800" cy="72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 flipV="1">
            <a:off x="5580000" y="4856040"/>
            <a:ext cx="1800" cy="72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2735280" y="5759280"/>
            <a:ext cx="1763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7d"/>
                </a:solidFill>
                <a:latin typeface="Arial"/>
              </a:rPr>
              <a:t>Methoden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4859280" y="5759280"/>
            <a:ext cx="15080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7d"/>
                </a:solidFill>
                <a:latin typeface="Arial"/>
              </a:rPr>
              <a:t>Rückgabety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ußzeilenplatzhalter 4"/>
          <p:cNvSpPr/>
          <p:nvPr/>
        </p:nvSpPr>
        <p:spPr>
          <a:xfrm>
            <a:off x="468360" y="6453360"/>
            <a:ext cx="66960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41720" cy="37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250920" y="360360"/>
            <a:ext cx="8424720" cy="9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 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II. Verändernde Metho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erändern Attributwerte von Objek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Ändern den Zustand des Objek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851280" y="2997360"/>
            <a:ext cx="1008000" cy="1223640"/>
          </a:xfrm>
          <a:prstGeom prst="downArrow">
            <a:avLst>
              <a:gd name="adj1" fmla="val 50000"/>
              <a:gd name="adj2" fmla="val 30348"/>
            </a:avLst>
          </a:prstGeom>
          <a:solidFill>
            <a:srgbClr val="00007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ina</dc:creator>
  <dc:description/>
  <dc:language>en-US</dc:language>
  <cp:lastModifiedBy>Ute Heuer</cp:lastModifiedBy>
  <dcterms:modified xsi:type="dcterms:W3CDTF">2008-09-01T13:27:06Z</dcterms:modified>
  <cp:revision>17</cp:revision>
  <dc:subject/>
  <dc:title>Kapitel 3: Methoden</dc:title>
</cp:coreProperties>
</file>